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73F-9422-44A3-A65B-A0DB3CE1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73B-B488-4443-81D5-19BE4719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DDA-901D-426E-8B44-3616F594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5BD-658E-4D14-9400-1DDF8712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57A-D50E-4250-AAC0-0A970A1C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C93-47ED-45F9-A836-9DB5C0F9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0B5-13E0-4B9D-9BC7-28F5355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D8A-2C19-4A12-9326-87AB56C9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ECD-132B-46D5-967D-67F326F3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336-1BD4-4264-B761-650A3A78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33F-695F-40C8-8568-C2A9BCD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F2C-EF65-4259-B35B-526B327D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35C9-EF8A-4D9E-8955-BFC08ECF1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hievement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formation Management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, Present information and provide a bibliography in the correct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ree pieces of info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ovel “Looking for Alibrandi” Unfortunately the library does not have a copy so we Google “Book Searc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cide on an important idea that you want to present about this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and film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 in the opening of film v’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director of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ole point is to present th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ll balanced on th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lours that can be rea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ntrast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You are going to end up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A4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are about the information sou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is the 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ooking for Alibrandi,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lina March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05:04Z</dcterms:created>
  <dc:creator>maryvanro</dc:creator>
  <dc:description/>
  <dc:language>en-US</dc:language>
  <cp:lastModifiedBy>maryvanro</cp:lastModifiedBy>
  <dcterms:modified xsi:type="dcterms:W3CDTF">2008-08-28T02:47:04Z</dcterms:modified>
  <cp:revision>4</cp:revision>
  <dc:subject/>
  <dc:title>Achievement Standard</dc:title>
</cp:coreProperties>
</file>