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EE1F-D082-4D5A-B4D0-1690F6D1D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04D0-5821-4514-B8F8-E44A62A9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0C8E-870B-4590-BACD-440670D5B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86DF-79DE-4897-A8E1-756ABF62A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1837-6483-4D27-AC49-748868F0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F8D0-5523-4EBD-8A50-E28AD5E5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A57B-D4C2-4A3F-B9E8-3FA41914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6F8E-6DAC-432D-ACC8-5B727D2B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B77F-D0D4-46E6-878D-D324298B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D5D4-B87F-4C56-9F08-FEFE3D30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1E98-667C-4D9F-8589-686E5D01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AFC1-0E39-4218-B307-CDDF3F0E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875F-E121-4C93-9484-D8E86268A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Achievement Stand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nformation Management 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esearch, Present information and provide a bibliography in the correct form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hree pieces of info 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novel “Looking for Alibrandi” Unfortunately the library does not have a copy so we Google “Book Search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Decide on an important idea that you want to present about this inf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ifferences in the book co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ifferences in the book and film co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ifference in the opening of film v’s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teresting fact about the auth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teresting fact about the director of fi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Whole point is to present the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l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ll balanced on the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Use colours that can be read eas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Use contrast for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You are going to end up wi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4 A4 she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3 are about the information sour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1 is the bibl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ww……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ww……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Looking for Alibrandi,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elina Marchet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02:05:04Z</dcterms:created>
  <dc:creator>maryvanro</dc:creator>
  <dc:description/>
  <dc:language>en-US</dc:language>
  <cp:lastModifiedBy>maryvanro</cp:lastModifiedBy>
  <dcterms:modified xsi:type="dcterms:W3CDTF">2008-08-28T02:47:04Z</dcterms:modified>
  <cp:revision>4</cp:revision>
  <dc:subject/>
  <dc:title>Achievement Standard</dc:title>
</cp:coreProperties>
</file>