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C8E-AB47-4BFB-B21F-72A26E22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830-1DBF-407E-8A3F-57B41C4F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E27-F0CB-47E7-9776-219351BE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3C3-D58F-41F7-9A9E-A2D14B9A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4F7-FB33-4CF5-9A8E-7C6243F9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FDA-777D-4CAA-A17A-26027F41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7C4-05AC-40B8-AE4F-07F2EA9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11E-6B7B-4BB3-AFBB-B5BB1565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4C8-FCEF-41DD-9863-EE305130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ACB-0441-455D-B7E4-DC0766B3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9E7-7EC4-42BD-8A18-0A9D5C6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438-F422-4903-A798-5A4BE8A9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5C35-B146-4CEB-BEF1-2BFF861AB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hievement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formation Management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, Present information and provide a bibliography in the correct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ree pieces of info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ovel “Looking for Alibrandi” Unfortunately the library does not have a copy so we Google “Book Searc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cide on an important idea that you want to present about this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and film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 in the opening of film v’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director of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ole point is to present th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ll balanced on th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lours that can be rea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ntrast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You are going to end up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A4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 are about the information sou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is the 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Looking for Alibrandi,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lina March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2:05:04Z</dcterms:created>
  <dc:creator>maryvanro</dc:creator>
  <dc:description/>
  <dc:language>en-US</dc:language>
  <cp:lastModifiedBy>maryvanro</cp:lastModifiedBy>
  <dcterms:modified xsi:type="dcterms:W3CDTF">2008-08-28T02:47:04Z</dcterms:modified>
  <cp:revision>4</cp:revision>
  <dc:subject/>
  <dc:title>Achievement Standard</dc:title>
</cp:coreProperties>
</file>