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FA60-72EA-4196-911D-226B49DC4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D62B-98CB-4801-8316-1C447547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BBB7-21EB-4B64-B435-A970F756D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9836-5554-4C24-9054-160DD8D2E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C577-C818-4863-B380-212235D2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00D9-8A47-42BC-ACFF-598A1D23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2EFE-B73F-4123-956E-F9FD4056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BD5A-FFB3-4306-8C61-64A0F79F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5DDF-CFB3-491D-900E-CF29F764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89AC-ADD6-427D-B65D-6C57BA15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07DF-8B7C-4DA7-9941-47CEA282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2804-A6EE-4A99-94DD-72034904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EB63-FEF7-44D4-8D2D-2CB50F230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Achievement Stand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nformation Management 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search, Present information and provide a bibliography in the correct form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hree pieces of info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novel “Looking for Alibrandi” Unfortunately the library does not have a copy so we Google “Book Search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Decide on an important idea that you want to present about this inf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ifferences in the book co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ifferences in the book and film co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ifference in the opening of film v’s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teresting fact about the auth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teresting fact about the director of fi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Whole point is to present the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l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ll balanced on the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Use colours that can be read eas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Use contrast fo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You are going to end up w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4 A4 she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3 are about the information sour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 is the bibl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ww……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ww……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Looking for Alibrandi,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elina Marchet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02:05:04Z</dcterms:created>
  <dc:creator>maryvanro</dc:creator>
  <dc:description/>
  <dc:language>en-US</dc:language>
  <cp:lastModifiedBy>maryvanro</cp:lastModifiedBy>
  <dcterms:modified xsi:type="dcterms:W3CDTF">2008-08-28T02:47:04Z</dcterms:modified>
  <cp:revision>4</cp:revision>
  <dc:subject/>
  <dc:title>Achievement Standard</dc:title>
</cp:coreProperties>
</file>