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406-6701-4025-904D-18FD888E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1F0-6BEB-4A11-9574-B3F1C48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856-4F63-4013-A869-9C06784F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11A-1815-40C8-8072-33C007DD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D7-28F1-4811-96C5-3DAC34D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8C9-DC14-445F-8804-6A74F9D7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B3F-227E-4FB4-809F-CC6235ED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20C-ED82-4A46-9ED8-996BDD54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3E5-9E50-4116-A214-36E57BFA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FD8-D848-4216-A7FB-4FEE52AB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D49-0165-4BEE-B837-7A4904B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D0C-2072-4AD1-91C2-3A571877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27C-F963-4DEA-B90F-517C6F6A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hievement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formation Management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search, Present information and provide a bibliography in the correct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ree pieces of info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novel “Looking for Alibrandi” Unfortunately the library does not have a copy so we Google “Book Searc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cide on an important idea that you want to present about this inf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s in the book and film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ifference in the opening of film v’s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eresting fact about the director of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ole point is to present th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ll balanced on th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lours that can be rea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contrast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You are going to end up 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A4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 are about the information sou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is the 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ww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Looking for Alibrandi,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lina March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02:05:04Z</dcterms:created>
  <dc:creator>maryvanro</dc:creator>
  <dc:description/>
  <dc:language>en-US</dc:language>
  <cp:lastModifiedBy>maryvanro</cp:lastModifiedBy>
  <dcterms:modified xsi:type="dcterms:W3CDTF">2008-08-28T02:47:04Z</dcterms:modified>
  <cp:revision>4</cp:revision>
  <dc:subject/>
  <dc:title>Achievement Standard</dc:title>
</cp:coreProperties>
</file>