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E70-0739-4A17-A701-760D6EE5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921-EBD5-4B1E-B4F7-51ED4428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11C-5504-4E92-8D86-FD8306F0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808-E8FD-4E71-9AC7-14762140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15A-AEA6-4FBF-B4B6-0791D915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FAC-7E0A-4F8D-BD13-EB933F80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078-CED6-4ED9-B69E-384E49A2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198-B8A1-4863-B8C4-183F85F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A4B-F0E2-4CC9-9F6C-8383869F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EF6-A59F-4983-B106-362FA32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AEB-2F0C-42A1-B70D-B2255858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D80-8966-4E35-8CBA-559AFF99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7E88-9133-49B0-9724-A9A6A7CC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oGku.hAitG0w8BiIH1Zgx./SIG=1hks8pn9h/EXP=1177310241/**http%3A//nz.search.yahoo.com/search/images/view%3Fback=http%253A%252F%252Fnz.search.yahoo.com%252Fsearch%252Fimages%253Fp%253Dchaos%2526ei%253DUTF-8%2526fr%253Dsfp%2526x%253Dwrt%2526meta%253Datw%26w=647%26h=553%26imgurl=www.netmdc.com%252F%257Elongfang%252FSubpages%252FChaos_Gallery_files%252FChaos%252520Predator%2525201.jpg%26rurl=http%253A%252F%252Fwww.netmdc.com%252F%257Elongfang%252FSubpages%252FChaos_Gallery_files%26size=125.9kB%26name=Chaos%2BPredator%2B1.jpg%26p=chaos%26type=jpeg%26no=16%26tt=766,304%26oid=cf5a2aad304c24d2%26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Last term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e looked at how the environment affected people’s lives. Thi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conom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religiou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olit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oci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hysic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869000"/>
            <a:ext cx="813744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is term we are focusing on how these environments create either </a:t>
            </a:r>
            <a:r>
              <a:rPr b="1" lang="en-AU" sz="2800" spc="-1" strike="noStrike">
                <a:solidFill>
                  <a:srgbClr val="00cc00"/>
                </a:solidFill>
                <a:latin typeface="Arial"/>
              </a:rPr>
              <a:t>orde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 chao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in the lives of those affected directly or in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45000"/>
            <a:ext cx="8136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focused on Roman Life and how society was affected by their beliefs, laws and natural disasters (The eruption of Pompei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Arial"/>
              </a:rPr>
              <a:t>Is this law and order? You decide</a:t>
            </a:r>
            <a:r>
              <a:rPr b="0" lang="en-A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walks with a young German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68604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1341360"/>
            <a:ext cx="482436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What do you know about Hitler’s Government?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o was Hitler? (Copy this introduction and the following instruction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tler’s policies and ideas created a very organised and orderly society in Germany in the late 1930’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also created employment and restored the German people’s pride after losing World War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But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is beliefs were not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In what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id not value all human life equally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o you think of this kind of law and order? Explain what you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Order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haos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isorder; Anarchy; Bedlam; Confusion; Disorganisation; Lawlessness; Pandemonium; Tum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rder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idiness; Method; Neatness; Peace; Calm; Control; Discipline; Law and Order; Quiet; Tranquil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erm two Integrated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765000"/>
            <a:ext cx="2916360" cy="248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424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43640" y="3213000"/>
            <a:ext cx="2521080" cy="35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airs, look up these words in a dictionary and record their mean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n: Create a title page “depicting” “portraying” what you “predict” this topic will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New Zealand Way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37656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781360"/>
            <a:ext cx="331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w Zealand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vote for our leaders and representatives in Parli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speak and as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be educated and receive health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practise whatever religion we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1844640"/>
            <a:ext cx="1873080" cy="301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Do 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 up the word </a:t>
            </a: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emocracy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 dictionary and write down its meaning. Then copy the information this slide ben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508464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are equal, not alone, we are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emocracy in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 is a democracy, meaning New Zealanders hav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ltimate power over the way they are gover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it is hard to make use of that power without knowing how the process of government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get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arlia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ce every three yea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there is a lot more to democracy than elections. A democracy should give citizens many opportunities t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rticip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decision making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prov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s and balances so that people with power cannot abuse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ect for the voice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inor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s well as those of the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ajority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pendent and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mpartial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ges who treat everyone equall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ree pres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acc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official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e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individual r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dom from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rruptio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22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902120"/>
            <a:ext cx="7991280" cy="196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o Now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In pairs, look up and record the dictionary meanings for the words in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ecord the information from this slide making sure that you put the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on the left-hand side of your page, so that you can then write a contrast description on the right-hand side of the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8472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checks and balances in New Zealand to stop politicians from abusing thei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89000"/>
            <a:ext cx="37447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a country where there weren’t these checks and balances and people could get or have what ever they w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48428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norities have representation in 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1413000"/>
            <a:ext cx="381636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a minority group in a country where you had no say in your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349360"/>
            <a:ext cx="396108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f you go to court in New Zealand you have the right to be heard by a judge who is not biased agains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349360"/>
            <a:ext cx="39592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you were afraid of going to court because they didn’t “like” you or what you stood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789360"/>
            <a:ext cx="360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fre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4032000" cy="11912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the government says what gets put in books, on t.v. on the internet or the radio. Even who has a ph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97360"/>
            <a:ext cx="360036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access to offici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41720"/>
            <a:ext cx="4032360" cy="91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if you had no way of finding out what has happened to other members of your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734080"/>
            <a:ext cx="3600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t is unlawful for New Zealand politicians to accept bribes o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5942160"/>
            <a:ext cx="4319640" cy="91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living in a country where the only way to get something done was to pay a government off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33336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125360"/>
            <a:ext cx="7775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Learning outcome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s will realise that “Order” comes from following a set of Rules, Rights and Responsibilities in any Society. That if any of these rules, rights or responsibilities are disrupted then chaos can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60280"/>
            <a:ext cx="7991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chievement Objective/learning intention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 understanding that a democratic political environment doesn’t mean that there is always a state of order in a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989000"/>
            <a:ext cx="7704000" cy="257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Now:1.Head up in your Social Studies Projects Book, the Heading “Our country might be a democracy – but there is sometimes still chaos around m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 In pairs, list below this heading, the times when there is chaos in your own world/family/country/sports team. Perhaps it was caused by weather, fire, fighting, disagreements, protests and marches, or people deciding not to work until they get better working cond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 I will be asking each of you to share your list with the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4508640"/>
            <a:ext cx="31672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76280"/>
            <a:ext cx="7848720" cy="550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y list would include protest marches about the smacking bill,  the Vietnam War, fighting in the street during the Spring Bok tour and my family’s split between whether a game of rugby should be played in New Zealand or n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62440" cy="319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opyright to The Dominion Post. This photograph may not be reproduced, copied or published in any printed or digital form without permission"/>
          <p:cNvPicPr/>
          <p:nvPr/>
        </p:nvPicPr>
        <p:blipFill>
          <a:blip r:embed="rId2"/>
          <a:stretch/>
        </p:blipFill>
        <p:spPr>
          <a:xfrm>
            <a:off x="4467240" y="2276640"/>
            <a:ext cx="467676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661000"/>
            <a:ext cx="712800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WHAT HAVE YOU NOTICED HAPPENING IN NZ or YOUR LIFE THAT SEEMS MORE CHAOTIC THAN ORDER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ree, Emily, Tania and Nik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macking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foodtown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llnesses in families and people becoming paraly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amily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a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rthquakes and tsun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ar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family comes around for X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ghts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tural disasters eg.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oating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any nations (for example, the United States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is a supreme la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describes the nation’s major institutions, defines their powers, and sets out the rights of citiz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based on the Westminster, or British, tradition. It has evolved over many years and has continued to change since we became independent of Brit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, government and judges must all do what the constitution s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titution can only be changed by special procedures (for example, a two-thirds vote by Parliament, or a referendu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found in a combina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al legal docu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articularl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Act 198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Letters Patent Constitut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ffice of the Governor-Gener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lectoral Act 199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w Zealand Bill of Rights Act 199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isions of the cour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nown as common la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-standing and recognised practices (some of which are described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itutional conven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661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508640"/>
            <a:ext cx="7993080" cy="295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o Now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.  Head Up </a:t>
            </a: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The Constitution and answer the following questions in COMPLETE sentences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at is NZ’s constitution based 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o must do what the constitution s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4. What two ways can the Constitution of NZ be chang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5.In what four formal legal documents, court decisions and conventions is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constitution written i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6 Look up the word Conventions referendum in the dictionary and record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a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8:47Z</dcterms:created>
  <dc:creator> van Rossen</dc:creator>
  <dc:description/>
  <dc:language>en-US</dc:language>
  <cp:lastModifiedBy>maryvanro</cp:lastModifiedBy>
  <dcterms:modified xsi:type="dcterms:W3CDTF">2009-02-20T00:15:41Z</dcterms:modified>
  <cp:revision>91</cp:revision>
  <dc:subject/>
  <dc:title>Order and Chaos</dc:title>
</cp:coreProperties>
</file>