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B7CE-F72C-4EBA-AAE9-9BC38482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6EA8-7D71-4103-9C22-B9C4CD97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8381-2289-40D2-ABD4-26EA0FF22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0F40-92C4-4F6A-8FA2-047A536F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462E-F92F-4201-8BBD-FD074E86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3042-FFFE-46ED-9ECE-98E6FF29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BC0-D9C2-44C8-AF1E-BE9E19ED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6167-4174-4ECD-89DD-3D660514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7141-DAD0-4981-9575-99EBEB03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1AE-7FE9-4DAA-8D45-E2C2197C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A23A-C7B0-4409-AF6C-22509E48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D784-C077-44C0-A944-E25FA75B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EC05-3B24-4E9F-882E-4FD31C635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z.wrs.yahoo.com/_ylt=A0oGku.hAitG0w8BiIH1Zgx./SIG=1hks8pn9h/EXP=1177310241/**http%3A//nz.search.yahoo.com/search/images/view%3Fback=http%253A%252F%252Fnz.search.yahoo.com%252Fsearch%252Fimages%253Fp%253Dchaos%2526ei%253DUTF-8%2526fr%253Dsfp%2526x%253Dwrt%2526meta%253Datw%26w=647%26h=553%26imgurl=www.netmdc.com%252F%257Elongfang%252FSubpages%252FChaos_Gallery_files%252FChaos%252520Predator%2525201.jpg%26rurl=http%253A%252F%252Fwww.netmdc.com%252F%257Elongfang%252FSubpages%252FChaos_Gallery_files%26size=125.9kB%26name=Chaos%2BPredator%2B1.jpg%26p=chaos%26type=jpeg%26no=16%26tt=766,304%26oid=cf5a2aad304c24d2%26ei=UTF-8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Last term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we looked at how the environment affected people’s lives. This inclu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229600" cy="31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economic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religious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politic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oci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physical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4869000"/>
            <a:ext cx="8137440" cy="180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his term we are focusing on how these environments create either </a:t>
            </a:r>
            <a:r>
              <a:rPr b="1" lang="en-AU" sz="2800" spc="-1" strike="noStrike">
                <a:solidFill>
                  <a:srgbClr val="00cc00"/>
                </a:solidFill>
                <a:latin typeface="Arial"/>
              </a:rPr>
              <a:t>order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AU" sz="2800" spc="-1" strike="noStrike">
                <a:solidFill>
                  <a:srgbClr val="ff0000"/>
                </a:solidFill>
                <a:latin typeface="Arial"/>
              </a:rPr>
              <a:t> chaos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in the lives of those affected directly or indirec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3645000"/>
            <a:ext cx="81360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e focused on Roman Life and how society was affected by their beliefs, laws and natural disasters (The eruption of Pompeii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0000"/>
                </a:solidFill>
                <a:latin typeface="Arial"/>
              </a:rPr>
              <a:t>Is this law and order? You decide</a:t>
            </a:r>
            <a:r>
              <a:rPr b="0" lang="en-AU" sz="4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Hitler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walks with a young German b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686040" cy="5040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140360" y="1341360"/>
            <a:ext cx="4824360" cy="65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99"/>
                </a:solidFill>
                <a:latin typeface="Arial"/>
              </a:rPr>
              <a:t>What do you know about Hitler’s Government?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ho was Hitler? (Copy this introduction and the following instruction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itler’s policies and ideas created a very organised and orderly society in Germany in the late 1930’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 also created employment and restored the German people’s pride after losing World War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But </a:t>
            </a:r>
            <a:r>
              <a:rPr b="1" i="1" lang="en-AU" sz="1800" spc="-1" strike="noStrike">
                <a:solidFill>
                  <a:srgbClr val="000000"/>
                </a:solidFill>
                <a:latin typeface="Arial"/>
              </a:rPr>
              <a:t>his beliefs were not </a:t>
            </a:r>
            <a:r>
              <a:rPr b="1" i="1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peaceful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. In what w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i="1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did not value all human life equally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. What does this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hat do you think of this kind of law and order? Explain what you me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Arial"/>
              </a:rPr>
              <a:t>Order</a:t>
            </a: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AU" sz="4400" spc="-1" strike="noStrike">
                <a:solidFill>
                  <a:srgbClr val="ff0000"/>
                </a:solidFill>
                <a:latin typeface="Arial"/>
              </a:rPr>
              <a:t>Cha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522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Chaos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Disorder; Anarchy; Bedlam; Confusion; Disorganisation; Lawlessness; Pandemonium; Tum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716280"/>
            <a:ext cx="66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Order: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Tidiness; Method; Neatness; Peace; Calm; Control; Discipline; Law and Order; Quiet; Tranquil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Term two Integrated Stud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765000"/>
            <a:ext cx="2916360" cy="2489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24240" cy="364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443640" y="3213000"/>
            <a:ext cx="2521080" cy="3540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pairs, look up these words in a dictionary and record their mean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n: Create a title page “depicting” “portraying” what you “predict” this topic will be ab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 New Zealand Way of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736720" cy="1817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348000" y="1197000"/>
            <a:ext cx="3765600" cy="5040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2781360"/>
            <a:ext cx="33130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ew Zealand is a democ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 have the right to vote for our leaders and representatives in Parlia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 have the right to speak and assem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 have the right to be educated and receive health c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 have the right to practise whatever religion we pl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93080" y="1844640"/>
            <a:ext cx="1873080" cy="301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Do N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ook up the word </a:t>
            </a:r>
            <a:r>
              <a:rPr b="1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Democracy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a dictionary and write down its meaning. Then copy the information this slide bene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93080" y="5084640"/>
            <a:ext cx="17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are equal, not alone, we are a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Democracy in New Zea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69228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Zealand is a democracy, meaning New Zealanders have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ultimate power over the way they are govern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But it is hard to make use of that power without knowing how the process of government wor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get t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vot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Parliamen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once every three yea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But there is a lot more to democracy than elections. A democracy should give citizens many opportunities to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articip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decision making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provid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u="sng">
                <a:solidFill>
                  <a:srgbClr val="000000"/>
                </a:solidFill>
                <a:uFillTx/>
                <a:latin typeface="Arial"/>
              </a:rPr>
              <a:t>Provisions of 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s and balances so that people with power cannot abuse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pect for the voices of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minorit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as well as those of the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majority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ependent and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impartial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dges who treat everyone equally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free pres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acc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 official inform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rote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individual r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edom from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corruption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5229360"/>
            <a:ext cx="820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902120"/>
            <a:ext cx="7991280" cy="1966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Do Now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In pairs, look up and record the dictionary meanings for the words in bl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Record the information from this slide making sure that you put the </a:t>
            </a:r>
            <a:r>
              <a:rPr b="0" lang="en-NZ" sz="1600" spc="-1" strike="noStrike" u="sng">
                <a:solidFill>
                  <a:srgbClr val="000000"/>
                </a:solidFill>
                <a:uFillTx/>
                <a:latin typeface="Arial"/>
              </a:rPr>
              <a:t>Provisions of Democracy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on the left-hand side of your page, so that you can then write a contrast description on the right-hand side of the p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189000"/>
            <a:ext cx="3384720" cy="119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have checks and balances in New Zealand to stop politicians from abusing their p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189000"/>
            <a:ext cx="3744720" cy="119124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a country where there weren’t these checks and balances and people could get or have what ever they wa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1484280"/>
            <a:ext cx="3600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inorities have representation in New Zea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16360" y="1413000"/>
            <a:ext cx="3816360" cy="916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being a minority group in a country where you had no say in your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2349360"/>
            <a:ext cx="3961080" cy="916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f you go to court in New Zealand you have the right to be heard by a judge who is not biased against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2349360"/>
            <a:ext cx="395928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being in a country where you were afraid of going to court because they didn’t “like” you or what you stood f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789360"/>
            <a:ext cx="36003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have free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3573360"/>
            <a:ext cx="4032000" cy="11912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being in a country where the government says what gets put in books, on t.v. on the internet or the radio. Even who has a pho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797360"/>
            <a:ext cx="360036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have access to official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4941720"/>
            <a:ext cx="4032360" cy="9169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if you had no way of finding out what has happened to other members of your fam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5734080"/>
            <a:ext cx="3600720" cy="916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t is unlawful for New Zealand politicians to accept bribes or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27640" y="5942160"/>
            <a:ext cx="4319640" cy="916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living in a country where the only way to get something done was to pay a government offi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42920" y="333360"/>
            <a:ext cx="70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125360"/>
            <a:ext cx="77756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Learning outcome: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Students will realise that “Order” comes from following a set of Rules, Rights and Responsibilities in any Society. That if any of these rules, rights or responsibilities are disrupted then chaos can occ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60280"/>
            <a:ext cx="799128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Achievement Objective/learning intention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Student understanding that a democratic political environment doesn’t mean that there is always a state of order in a coun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989000"/>
            <a:ext cx="7704000" cy="257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o Now:1.Head up in your Social Studies Projects Book, the Heading “Our country might be a democracy – but there is sometimes still chaos around m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. In pairs, list below this heading, the times when there is chaos in your own world/family/country/sports team. Perhaps it was caused by weather, fire, fighting, disagreements, protests and marches, or people deciding not to work until they get better working condi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. I will be asking each of you to share your list with the cla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4700520"/>
            <a:ext cx="2879640" cy="2157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76720" y="4508640"/>
            <a:ext cx="316728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8360" y="476280"/>
            <a:ext cx="7848720" cy="5506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y list would include protest marches about the smacking bill,  the Vietnam War, fighting in the street during the Spring Bok tour and my family’s split between whether a game of rugby should be played in New Zealand or no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762440" cy="3191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Copyright to The Dominion Post. This photograph may not be reproduced, copied or published in any printed or digital form without permission"/>
          <p:cNvPicPr/>
          <p:nvPr/>
        </p:nvPicPr>
        <p:blipFill>
          <a:blip r:embed="rId2"/>
          <a:stretch/>
        </p:blipFill>
        <p:spPr>
          <a:xfrm>
            <a:off x="4467240" y="2276640"/>
            <a:ext cx="4676760" cy="3352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5280" y="5661000"/>
            <a:ext cx="7128000" cy="105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O WHAT HAVE YOU NOTICED HAPPENING IN NZ or YOUR LIFE THAT SEEMS MORE CHAOTIC THAN ORDER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ree, Emily, Tania and Nik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smacking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foodtown str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llnesses in families and people becoming paraly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amily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oad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arthquakes and tsuna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ear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hen family comes around for X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ights at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atural disasters eg. Eru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oating acci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onstitution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many nations (for example, the United States)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constitution is a supreme la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at describes the nation’s major institutions, defines their powers, and sets out the rights of citize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Zealand’s constitution is based on the Westminster, or British, tradition. It has evolved over many years and has continued to change since we became independent of Brita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liament, government and judges must all do what the constitution sa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nstitution can only be changed by special procedures (for example, a two-thirds vote by Parliament, or a referendu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Zealand’s Constitution is found in a combination of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mal legal documen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particularly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Constitution Act 198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the Letters Patent Constituting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Office of the Governor-Gener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Electoral Act 199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ew Zealand Bill of Rights Act 1990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cisions of the cour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known as common law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ng-standing and recognised practices (some of which are described a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stitutional convention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661000"/>
            <a:ext cx="820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4508640"/>
            <a:ext cx="7993080" cy="295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Do Now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1.  Head Up </a:t>
            </a:r>
            <a:r>
              <a:rPr b="1" lang="en-NZ" sz="1600" spc="-1" strike="noStrike" u="sng">
                <a:solidFill>
                  <a:srgbClr val="000000"/>
                </a:solidFill>
                <a:uFillTx/>
                <a:latin typeface="Arial"/>
              </a:rPr>
              <a:t>The Constitution and answer the following questions in COMPLETE sentences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What is NZ’s constitution based 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Who must do what the constitution say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4. What two ways can the Constitution of NZ be chang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5.In what four formal legal documents, court decisions and conventions is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the constitution written in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6 Look up the word Conventions referendum in the dictionary and record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mea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8:47Z</dcterms:created>
  <dc:creator> van Rossen</dc:creator>
  <dc:description/>
  <dc:language>en-US</dc:language>
  <cp:lastModifiedBy>maryvanro</cp:lastModifiedBy>
  <dcterms:modified xsi:type="dcterms:W3CDTF">2009-02-20T00:15:41Z</dcterms:modified>
  <cp:revision>91</cp:revision>
  <dc:subject/>
  <dc:title>Order and Chaos</dc:title>
</cp:coreProperties>
</file>