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762-683E-42AC-93C0-426EEC6B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3E5-0FBD-444A-81EE-34365DF7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D2CD-27BF-4DEB-9A7E-8C3127CB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376-A91C-4AC1-87C2-C8A5DBA3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18B-091B-4CBD-BD3C-8740B3C5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70C-12D1-4F1D-BB36-EE4E2E1C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D31-B7B8-4A2A-9FC6-A60FCFB7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829-C311-426F-A4F3-0261F991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4F7-D667-45DB-AB89-8B7540D9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1FB-D9AE-49CA-94D5-9AD91322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93E-93D2-4FF2-83C0-88930E6D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24EA-A3A5-4FB7-92BD-9441A76E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7013-8C0D-4638-96FF-F0776A172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z.wrs.yahoo.com/_ylt=A0oGku.hAitG0w8BiIH1Zgx./SIG=1hks8pn9h/EXP=1177310241/**http%3A//nz.search.yahoo.com/search/images/view%3Fback=http%253A%252F%252Fnz.search.yahoo.com%252Fsearch%252Fimages%253Fp%253Dchaos%2526ei%253DUTF-8%2526fr%253Dsfp%2526x%253Dwrt%2526meta%253Datw%26w=647%26h=553%26imgurl=www.netmdc.com%252F%257Elongfang%252FSubpages%252FChaos_Gallery_files%252FChaos%252520Predator%2525201.jpg%26rurl=http%253A%252F%252Fwww.netmdc.com%252F%257Elongfang%252FSubpages%252FChaos_Gallery_files%26size=125.9kB%26name=Chaos%2BPredator%2B1.jpg%26p=chaos%26type=jpeg%26no=16%26tt=766,304%26oid=cf5a2aad304c24d2%26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Last term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we looked at how the environment affected people’s lives. This i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22960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economic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religious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politic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oci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physical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869000"/>
            <a:ext cx="8137440" cy="180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his term we are focusing on how these environments create either </a:t>
            </a:r>
            <a:r>
              <a:rPr b="1" lang="en-AU" sz="2800" spc="-1" strike="noStrike">
                <a:solidFill>
                  <a:srgbClr val="00cc00"/>
                </a:solidFill>
                <a:latin typeface="Arial"/>
              </a:rPr>
              <a:t>order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AU" sz="2800" spc="-1" strike="noStrike">
                <a:solidFill>
                  <a:srgbClr val="ff0000"/>
                </a:solidFill>
                <a:latin typeface="Arial"/>
              </a:rPr>
              <a:t> chaos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in the lives of those affected directly or indi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645000"/>
            <a:ext cx="8136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 focused on Roman Life and how society was affected by their beliefs, laws and natural disasters (The eruption of Pompei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0000"/>
                </a:solidFill>
                <a:latin typeface="Arial"/>
              </a:rPr>
              <a:t>Is this law and order? You decide</a:t>
            </a:r>
            <a:r>
              <a:rPr b="0" lang="en-AU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Hitler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walks with a young German b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686040" cy="5040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40360" y="1341360"/>
            <a:ext cx="482436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99"/>
                </a:solidFill>
                <a:latin typeface="Arial"/>
              </a:rPr>
              <a:t>What do you know about Hitler’s Government?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o was Hitler? (Copy this introduction and the following instruction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itler’s policies and ideas created a very organised and orderly society in Germany in the late 1930’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 also created employment and restored the German people’s pride after losing World War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But </a:t>
            </a: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his beliefs were not </a:t>
            </a:r>
            <a:r>
              <a:rPr b="1" i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peaceful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. In what w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did not value all human life equally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. What does this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at do you think of this kind of law and order? Explain what you m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Order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AU" sz="4400" spc="-1" strike="noStrike">
                <a:solidFill>
                  <a:srgbClr val="ff0000"/>
                </a:solidFill>
                <a:latin typeface="Arial"/>
              </a:rPr>
              <a:t>Cha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Chaos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Disorder; Anarchy; Bedlam; Confusion; Disorganisation; Lawlessness; Pandemonium; Tum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71628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Order: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Tidiness; Method; Neatness; Peace; Calm; Control; Discipline; Law and Order; Quiet; Tranquil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Term two Integrated Stu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765000"/>
            <a:ext cx="2916360" cy="2489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24240" cy="364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43640" y="3213000"/>
            <a:ext cx="2521080" cy="3540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pairs, look up these words in a dictionary and record their mean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n: Create a title page “depicting” “portraying” what you “predict” this topic will be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New Zealand Way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736720" cy="1817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348000" y="1197000"/>
            <a:ext cx="3765600" cy="504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2781360"/>
            <a:ext cx="3313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w Zealand is a democ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vote for our leaders and representatives in Parlia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speak and assem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be educated and receive health c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practise whatever religion we pl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93080" y="1844640"/>
            <a:ext cx="1873080" cy="301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Do 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ok up the word </a:t>
            </a:r>
            <a:r>
              <a:rPr b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Democracy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a dictionary and write down its meaning. Then copy the information this slide bene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93080" y="5084640"/>
            <a:ext cx="17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are equal, not alone, we are a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Democracy in New Zea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Zealand is a democracy, meaning New Zealanders hav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ultimate power over the way they are govern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But it is hard to make use of that power without knowing how the process of government 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get 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vot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Parliame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once every three yea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But there is a lot more to democracy than elections. A democracy should give citizens many opportunities to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articip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decision making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provid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u="sng">
                <a:solidFill>
                  <a:srgbClr val="000000"/>
                </a:solidFill>
                <a:uFillTx/>
                <a:latin typeface="Arial"/>
              </a:rPr>
              <a:t>Provisions of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s and balances so that people with power cannot abuse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pect for the voices of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minorit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as well as those of the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majority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ependent and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impartial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dges who treat everyone equally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free pres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acc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official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rote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individual r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dom from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corruption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522936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902120"/>
            <a:ext cx="7991280" cy="196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Do Now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In pairs, look up and record the dictionary meanings for the words in b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Record the information from this slide making sure that you put the </a:t>
            </a:r>
            <a:r>
              <a:rPr b="0" lang="en-NZ" sz="1600" spc="-1" strike="noStrike" u="sng">
                <a:solidFill>
                  <a:srgbClr val="000000"/>
                </a:solidFill>
                <a:uFillTx/>
                <a:latin typeface="Arial"/>
              </a:rPr>
              <a:t>Provisions of Democracy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on the left-hand side of your page, so that you can then write a contrast description on the right-hand side of the p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89000"/>
            <a:ext cx="338472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have checks and balances in New Zealand to stop politicians from abusing their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189000"/>
            <a:ext cx="3744720" cy="119124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a country where there weren’t these checks and balances and people could get or have what ever they wa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1484280"/>
            <a:ext cx="3600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inorities have representation in New Zea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6360" y="1413000"/>
            <a:ext cx="3816360" cy="91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being a minority group in a country where you had no say in your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2349360"/>
            <a:ext cx="3961080" cy="916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f you go to court in New Zealand you have the right to be heard by a judge who is not biased against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349360"/>
            <a:ext cx="395928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being in a country where you were afraid of going to court because they didn’t “like” you or what you stood f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789360"/>
            <a:ext cx="36003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have free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3573360"/>
            <a:ext cx="4032000" cy="11912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being in a country where the government says what gets put in books, on t.v. on the internet or the radio. Even who has a ph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797360"/>
            <a:ext cx="360036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have access to offici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941720"/>
            <a:ext cx="4032360" cy="9169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if you had no way of finding out what has happened to other members of your fam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5734080"/>
            <a:ext cx="3600720" cy="916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t is unlawful for New Zealand politicians to accept bribes or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7640" y="5942160"/>
            <a:ext cx="4319640" cy="916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living in a country where the only way to get something done was to pay a government off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42920" y="333360"/>
            <a:ext cx="70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125360"/>
            <a:ext cx="77756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Learning outcome: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Students will realise that “Order” comes from following a set of Rules, Rights and Responsibilities in any Society. That if any of these rules, rights or responsibilities are disrupted then chaos can occ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60280"/>
            <a:ext cx="799128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chievement Objective/learning intention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Student understanding that a democratic political environment doesn’t mean that there is always a state of order in a cou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989000"/>
            <a:ext cx="7704000" cy="257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 Now:1.Head up in your Social Studies Projects Book, the Heading “Our country might be a democracy – but there is sometimes still chaos around m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. In pairs, list below this heading, the times when there is chaos in your own world/family/country/sports team. Perhaps it was caused by weather, fire, fighting, disagreements, protests and marches, or people deciding not to work until they get better working condi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. I will be asking each of you to share your list with the cla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470052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76720" y="4508640"/>
            <a:ext cx="316728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476280"/>
            <a:ext cx="7848720" cy="5506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y list would include protest marches about the smacking bill,  the Vietnam War, fighting in the street during the Spring Bok tour and my family’s split between whether a game of rugby should be played in New Zealand or no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762440" cy="3191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Copyright to The Dominion Post. This photograph may not be reproduced, copied or published in any printed or digital form without permission"/>
          <p:cNvPicPr/>
          <p:nvPr/>
        </p:nvPicPr>
        <p:blipFill>
          <a:blip r:embed="rId2"/>
          <a:stretch/>
        </p:blipFill>
        <p:spPr>
          <a:xfrm>
            <a:off x="4467240" y="2276640"/>
            <a:ext cx="4676760" cy="3352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5280" y="5661000"/>
            <a:ext cx="7128000" cy="105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 WHAT HAVE YOU NOTICED HAPPENING IN NZ or YOUR LIFE THAT SEEMS MORE CHAOTIC THAN ORDER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ree, Emily, Tania and Nik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smacking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foodtown str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llnesses in families and people becoming paraly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amily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oad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arthquakes and tsun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ear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en family comes around for X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ights at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atural disasters eg. Eru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oating acci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onstitution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any nations (for example, the United States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constitution is a supreme la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at describes the nation’s major institutions, defines their powers, and sets out the rights of citize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Zealand’s constitution is based on the Westminster, or British, tradition. It has evolved over many years and has continued to change since we became independent of Brita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liament, government and judges must all do what the constitution s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nstitution can only be changed by special procedures (for example, a two-thirds vote by Parliament, or a referendu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Zealand’s Constitution is found in a combination of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mal legal docume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particularly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Constitution Act 198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the Letters Patent Constituting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Office of the Governor-Gener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Electoral Act 199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w Zealand Bill of Rights Act 1990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cisions of the cour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known as common law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ng-standing and recognised practices (some of which are described a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titutional conven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66100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4508640"/>
            <a:ext cx="7993080" cy="295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Do Now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1.  Head Up </a:t>
            </a:r>
            <a:r>
              <a:rPr b="1" lang="en-NZ" sz="1600" spc="-1" strike="noStrike" u="sng">
                <a:solidFill>
                  <a:srgbClr val="000000"/>
                </a:solidFill>
                <a:uFillTx/>
                <a:latin typeface="Arial"/>
              </a:rPr>
              <a:t>The Constitution and answer the following questions in COMPLETE sentences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What is NZ’s constitution based 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Who must do what the constitution s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4. What two ways can the Constitution of NZ be chang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5.In what four formal legal documents, court decisions and conventions is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he constitution written in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6 Look up the word Conventions referendum in the dictionary and record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mea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8:47Z</dcterms:created>
  <dc:creator> van Rossen</dc:creator>
  <dc:description/>
  <dc:language>en-US</dc:language>
  <cp:lastModifiedBy>maryvanro</cp:lastModifiedBy>
  <dcterms:modified xsi:type="dcterms:W3CDTF">2009-02-20T00:15:41Z</dcterms:modified>
  <cp:revision>91</cp:revision>
  <dc:subject/>
  <dc:title>Order and Chaos</dc:title>
</cp:coreProperties>
</file>