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365-95DC-43B7-9631-2037AA9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F84-4FF4-412A-B5E8-4116D07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283-13CB-4C67-9CED-5C7D4584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350-3D9D-4A92-9816-D583ED39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820-2A22-4924-BA5A-7A9C3F56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8E4-E9F8-4E33-A392-9FA78E98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03C-6830-447F-9EBF-A7114C60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959-D183-4E95-83C6-AFE24652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D41-310D-4FAF-987D-9074DAE1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A08-F864-4A58-9C41-85342C8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F29-DC14-4EAE-B75C-A992191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9F7-4D62-49D4-8555-FCE896C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8010-FDE6-4B31-8E2A-49FF0F8B4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z.wrs.yahoo.com/_ylt=A0oGku.hAitG0w8BiIH1Zgx./SIG=1hks8pn9h/EXP=1177310241/**http%3A//nz.search.yahoo.com/search/images/view%3Fback=http%253A%252F%252Fnz.search.yahoo.com%252Fsearch%252Fimages%253Fp%253Dchaos%2526ei%253DUTF-8%2526fr%253Dsfp%2526x%253Dwrt%2526meta%253Datw%26w=647%26h=553%26imgurl=www.netmdc.com%252F%257Elongfang%252FSubpages%252FChaos_Gallery_files%252FChaos%252520Predator%2525201.jpg%26rurl=http%253A%252F%252Fwww.netmdc.com%252F%257Elongfang%252FSubpages%252FChaos_Gallery_files%26size=125.9kB%26name=Chaos%2BPredator%2B1.jpg%26p=chaos%26type=jpeg%26no=16%26tt=766,304%26oid=cf5a2aad304c24d2%26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Last term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we looked at how the environment affected people’s lives. This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conom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religiou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it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oci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869000"/>
            <a:ext cx="813744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his term we are focusing on how these environments create either </a:t>
            </a:r>
            <a:r>
              <a:rPr b="1" lang="en-AU" sz="2800" spc="-1" strike="noStrike">
                <a:solidFill>
                  <a:srgbClr val="00cc00"/>
                </a:solidFill>
                <a:latin typeface="Arial"/>
              </a:rPr>
              <a:t>order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AU" sz="2800" spc="-1" strike="noStrike">
                <a:solidFill>
                  <a:srgbClr val="ff0000"/>
                </a:solidFill>
                <a:latin typeface="Arial"/>
              </a:rPr>
              <a:t> chao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in the lives of those affected directly or in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3645000"/>
            <a:ext cx="8136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 focused on Roman Life and how society was affected by their beliefs, laws and natural disasters (The eruption of Pompei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0000"/>
                </a:solidFill>
                <a:latin typeface="Arial"/>
              </a:rPr>
              <a:t>Is this law and order? You decide</a:t>
            </a:r>
            <a:r>
              <a:rPr b="0" lang="en-A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Hitler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walks with a young German 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686040" cy="5040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1341360"/>
            <a:ext cx="482436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99"/>
                </a:solidFill>
                <a:latin typeface="Arial"/>
              </a:rPr>
              <a:t>What do you know about Hitler’s Government?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o was Hitler? (Copy this introduction and the following instruction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tler’s policies and ideas created a very organised and orderly society in Germany in the late 1930’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also created employment and restored the German people’s pride after losing World War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But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is beliefs were not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In what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id not value all human life equally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. 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hat do you think of this kind of law and order? Explain what you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Arial"/>
              </a:rPr>
              <a:t>Order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Chaos</a:t>
            </a: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Disorder; Anarchy; Bedlam; Confusion; Disorganisation; Lawlessness; Pandemonium; Tum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Order: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idiness; Method; Neatness; Peace; Calm; Control; Discipline; Law and Order; Quiet; Tranquil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"/>
              </a:rPr>
              <a:t>Term two Integrated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765000"/>
            <a:ext cx="2916360" cy="248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24240" cy="364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43640" y="3213000"/>
            <a:ext cx="2521080" cy="354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airs, look up these words in a dictionary and record their mean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n: Create a title page “depicting” “portraying” what you “predict” this topic will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New Zealand Way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48000" y="1197000"/>
            <a:ext cx="37656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2781360"/>
            <a:ext cx="331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w Zealand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vote for our leaders and representatives in Parli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speak and as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be educated and receive health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 have the right to practise whatever religion we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1844640"/>
            <a:ext cx="1873080" cy="301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Do 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 up the word </a:t>
            </a:r>
            <a:r>
              <a:rPr b="1" lang="en-AU" sz="1800" spc="-1" strike="noStrike" u="sng">
                <a:solidFill>
                  <a:srgbClr val="000000"/>
                </a:solidFill>
                <a:uFillTx/>
                <a:latin typeface="Arial"/>
              </a:rPr>
              <a:t>Democracy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 dictionary and write down its meaning. Then copy the information this slide ben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5084640"/>
            <a:ext cx="17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are equal, not alone, we ar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Democracy in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 is a democracy, meaning New Zealanders hav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ltimate power over the way they are govern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it is hard to make use of that power without knowing how the process of government 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get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vo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arliament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once every three y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But there is a lot more to democracy than elections. A democracy should give citizens many opportunities t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rticip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decision making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provid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s and balances so that people with power cannot abus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pect for the voice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inor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as well as those of the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pendent and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impartia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ges who treat everyone equall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ree pres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acc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official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ote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individual r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rruption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22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902120"/>
            <a:ext cx="7991280" cy="19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Now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In pairs, look up and record the dictionary meanings for the words in b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Record the information from this slide making sure that you put the </a:t>
            </a:r>
            <a:r>
              <a:rPr b="0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Provisions of Democracy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 on the left-hand side of your page, so that you can then write a contrast description on the right-hand side of the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8472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checks and balances in New Zealand to stop politicians from abusing thei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189000"/>
            <a:ext cx="3744720" cy="11912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a country where there weren’t these checks and balances and people could get or have what ever they wa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48428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norities have representation in 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16360" y="1413000"/>
            <a:ext cx="3816360" cy="91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a minority group in a country where you had no say in your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349360"/>
            <a:ext cx="396108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you go to court in New Zealand you have the right to be heard by a judge who is not biased agains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349360"/>
            <a:ext cx="395928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you were afraid of going to court because they didn’t “like” you or what you stood 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789360"/>
            <a:ext cx="360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fre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4032000" cy="11912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being in a country where the government says what gets put in books, on t.v. on the internet or the radio. Even who has a ph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797360"/>
            <a:ext cx="3600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 have access to offici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41720"/>
            <a:ext cx="4032360" cy="916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if you had no way of finding out what has happened to other members of your fam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734080"/>
            <a:ext cx="3600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t is unlawful for New Zealand politicians to accept bribes or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5942160"/>
            <a:ext cx="4319640" cy="91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magine living in a country where the only way to get something done was to pay a government off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42920" y="33336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125360"/>
            <a:ext cx="77756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Learning outcome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s will realise that “Order” comes from following a set of Rules, Rights and Responsibilities in any Society. That if any of these rules, rights or responsibilities are disrupted then chaos can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60280"/>
            <a:ext cx="79912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chievement Objective/learning intention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tudent understanding that a democratic political environment doesn’t mean that there is always a state of order in a coun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989000"/>
            <a:ext cx="7704000" cy="257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 Now:1.Head up in your Social Studies Projects Book, the Heading “Our country might be a democracy – but there is sometimes still chaos around 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. In pairs, list below this heading, the times when there is chaos in your own world/family/country/sports team. Perhaps it was caused by weather, fire, fighting, disagreements, protests and marches, or people deciding not to work until they get better working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I will be asking each of you to share your list with the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470052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4508640"/>
            <a:ext cx="31672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476280"/>
            <a:ext cx="7848720" cy="5506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y list would include protest marches about the smacking bill,  the Vietnam War, fighting in the street during the Spring Bok tour and my family’s split between whether a game of rugby should be played in New Zealand or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62440" cy="31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pyright to The Dominion Post. This photograph may not be reproduced, copied or published in any printed or digital form without permission"/>
          <p:cNvPicPr/>
          <p:nvPr/>
        </p:nvPicPr>
        <p:blipFill>
          <a:blip r:embed="rId2"/>
          <a:stretch/>
        </p:blipFill>
        <p:spPr>
          <a:xfrm>
            <a:off x="4467240" y="2276640"/>
            <a:ext cx="4676760" cy="3352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5661000"/>
            <a:ext cx="7128000" cy="105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WHAT HAVE YOU NOTICED HAPPENING IN NZ or YOUR LIFE THAT SEEMS MORE CHAOTIC THAN ORDER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ree, Emily, Tania and Nik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macking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odtown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llnesses in families and people becoming para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amily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a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arthquakes and tsun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ear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family comes around for X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ght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tural disasters eg.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oating 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any nations (for example, the United States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is a suprem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at describes the nation’s major institutions, defines their powers, and sets out the rights of citize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based on the Westminster, or British, tradition. It has evolved over many years and has continued to change since we became independent of Brit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, government and judges must all do what the constitution s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titution can only be changed by special procedures (for example, a two-thirds vote by Parliament, or a referendu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Zealand’s Constitution is found in a combination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al legal doc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articularl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nstitution Act 198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Letters Patent Constitut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ffice of the Governor-Gener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Electoral Act 199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w Zealand Bill of Rights Act 199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sions of the cour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nown as common la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-standing and recognised practices (some of which are described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itutional conven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661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508640"/>
            <a:ext cx="7993080" cy="295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o Now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.  Head Up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The Constitution and answer the following questions in COMPLETE sentences</a:t>
            </a: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at is NZ’s constitution based 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Who must do what the constitution say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4. What two ways can the Constitution of NZ be chang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5.In what four formal legal documents, court decisions and conventions is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 constitution written i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6 Look up the word Conventions referendum in the dictionary and record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mea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8:47Z</dcterms:created>
  <dc:creator> van Rossen</dc:creator>
  <dc:description/>
  <dc:language>en-US</dc:language>
  <cp:lastModifiedBy>maryvanro</cp:lastModifiedBy>
  <dcterms:modified xsi:type="dcterms:W3CDTF">2009-02-20T00:15:41Z</dcterms:modified>
  <cp:revision>91</cp:revision>
  <dc:subject/>
  <dc:title>Order and Chaos</dc:title>
</cp:coreProperties>
</file>