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FA3-D9F4-46EE-BB71-5968642F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594-39AF-4A9D-BF87-A352B36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557-2F0E-449E-A1E5-45165EBE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288-3D2B-4BBD-A101-7F0949CF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5CA-2E4B-46CA-BA4C-1F36E9A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FE9-2DB1-40D8-B7AC-685EBE5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BEE-0DCC-4D7F-ACC0-16D2A2AF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8AD-DDDD-4D93-8C6F-8922C694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C7D-77E8-4013-B92D-D073B1F0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208-0EA6-4927-B1DD-04034FB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4F5-9691-4BED-8298-ED5487D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305-F26E-4AE3-83DA-8C24DAA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92F-80F9-4E00-BDCF-F1ABC1CAE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Roman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17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35:23Z</dcterms:created>
  <dc:creator>maryvanro</dc:creator>
  <dc:description/>
  <dc:language>en-US</dc:language>
  <cp:lastModifiedBy>maryvanro</cp:lastModifiedBy>
  <dcterms:modified xsi:type="dcterms:W3CDTF">2007-02-23T00:35:38Z</dcterms:modified>
  <cp:revision>1</cp:revision>
  <dc:subject/>
  <dc:title>The Roman Bathroom</dc:title>
</cp:coreProperties>
</file>