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9C2-42EB-47C0-89FA-0CB63320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84C-1060-40C7-B658-C2C76BAF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660-4F8B-48F9-95FE-626B530D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9CE-EEBA-46D4-A183-D9BC3B54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7CA-EE29-4854-B9A0-DD2C7E8A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C52-C85D-4110-BDC4-34692FC4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6CA-9F7A-4059-AC1F-AE7ECAE1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CB1-927B-4353-9B51-5C2468D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2D3-45BF-47D0-9EE2-9C127843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C60-C788-420C-B4D3-32992698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7FB-C68B-4A8A-94A2-8F998B0B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3E9-EC41-4ADA-989F-E4467A9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FB79-2E4B-4D30-88DF-BA291C201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Roman Bath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17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0:35:23Z</dcterms:created>
  <dc:creator>maryvanro</dc:creator>
  <dc:description/>
  <dc:language>en-US</dc:language>
  <cp:lastModifiedBy>maryvanro</cp:lastModifiedBy>
  <dcterms:modified xsi:type="dcterms:W3CDTF">2007-02-23T00:35:38Z</dcterms:modified>
  <cp:revision>1</cp:revision>
  <dc:subject/>
  <dc:title>The Roman Bathroom</dc:title>
</cp:coreProperties>
</file>