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81BA-7CC1-490F-A909-FC63913E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D021-4109-4304-B1A4-0613538A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379E-F4F9-4A6C-AC72-77B8C3EE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7E99-3D8E-4501-B64F-E638BF8F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5A89-F3C6-4F65-8EBC-85143C1F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786E-589F-4F7C-94E1-12C8FB18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164-4422-4CAA-AF3F-5C4A4492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1615-BA12-4665-84AC-5676A718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F916-8534-47C4-BF94-E01592DB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8E4D-F9D2-4A28-B035-E57FA8A0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21F3-525B-4B02-B2D0-9D5DFD4C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EE4C-EE1F-4787-9781-AF17A721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A60F-7F27-4923-ABD0-8AD82C09B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Roman Bath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3178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00:35:23Z</dcterms:created>
  <dc:creator>maryvanro</dc:creator>
  <dc:description/>
  <dc:language>en-US</dc:language>
  <cp:lastModifiedBy>maryvanro</cp:lastModifiedBy>
  <dcterms:modified xsi:type="dcterms:W3CDTF">2007-02-23T00:35:38Z</dcterms:modified>
  <cp:revision>1</cp:revision>
  <dc:subject/>
  <dc:title>The Roman Bathroom</dc:title>
</cp:coreProperties>
</file>