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E156-F26F-41A7-8668-7455A41B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3168-7198-432D-AA58-129D0F69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51C9-C0A3-4A6E-8AE3-E94446CB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08AC-BCFC-4A90-B806-8FFD123F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7F92-A8BB-415E-9552-DFC8334C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8F9E-C660-4DD6-8A7F-4A65D942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77DC-0191-4E02-B593-22194CC8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240E-28B9-4C4B-B369-B90A0939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951-8101-4444-978D-DC5FE0A5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37D3-8B73-4D9B-B935-FCC7F2F3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F979-D53E-48F6-B0B2-783D13B4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FF65-747C-49FE-BBF5-59A7DC40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24AB-4340-4BB6-ABFA-EA167CAFC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Roman Bath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431784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00:35:23Z</dcterms:created>
  <dc:creator>maryvanro</dc:creator>
  <dc:description/>
  <dc:language>en-US</dc:language>
  <cp:lastModifiedBy>maryvanro</cp:lastModifiedBy>
  <dcterms:modified xsi:type="dcterms:W3CDTF">2007-02-23T00:35:38Z</dcterms:modified>
  <cp:revision>1</cp:revision>
  <dc:subject/>
  <dc:title>The Roman Bathroom</dc:title>
</cp:coreProperties>
</file>