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DCE-E246-460D-AFE8-C52A2F02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63C-AFBA-43A6-8643-9E3DEB1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786-EC5F-4380-9137-A70614C5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9D7-3582-4151-AB9E-4C80133A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B44-354F-487E-B470-9D54A44B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5F4-C7C0-4A05-95F3-CADC1070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003-F2F0-4732-A9D2-9CDBCBD8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E6B-443C-4978-95DE-56904E49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7D2-C019-415E-AD78-3AFD2FBB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C4A-C9AF-4B1E-8028-7160030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3B9-0233-46A6-9AB6-7E16EF0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051-88C8-4784-AE70-C8643403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0470-335A-43CD-81E9-C4E52E7B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Roman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17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35:23Z</dcterms:created>
  <dc:creator>maryvanro</dc:creator>
  <dc:description/>
  <dc:language>en-US</dc:language>
  <cp:lastModifiedBy>maryvanro</cp:lastModifiedBy>
  <dcterms:modified xsi:type="dcterms:W3CDTF">2007-02-23T00:35:38Z</dcterms:modified>
  <cp:revision>1</cp:revision>
  <dc:subject/>
  <dc:title>The Roman Bathroom</dc:title>
</cp:coreProperties>
</file>