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C1D-E1E7-47C5-AD12-15263702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681-64C7-4225-99D9-5F592000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C6C-CE4A-416A-88BA-AD0558B6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EFD-8EF6-45C2-BE61-72F05180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221-BB0D-4B82-A367-5CAFC903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C47-81E4-4D38-9461-25D1266F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80A-DC55-4AD3-9982-FB4A008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46E-86D3-468D-8050-71232D2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CE0-CBB1-4F07-858B-6BAC2FAC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B21-6A43-402F-9093-1C725CA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F4A-67C5-4DFB-AC94-1CC21BE1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E71-4E6C-4488-B7B7-75E5884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A64-D3DF-4D5F-98F7-0E7794E9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Roman 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317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0:35:23Z</dcterms:created>
  <dc:creator>maryvanro</dc:creator>
  <dc:description/>
  <dc:language>en-US</dc:language>
  <cp:lastModifiedBy>maryvanro</cp:lastModifiedBy>
  <dcterms:modified xsi:type="dcterms:W3CDTF">2007-02-23T00:35:38Z</dcterms:modified>
  <cp:revision>1</cp:revision>
  <dc:subject/>
  <dc:title>The Roman Bathroom</dc:title>
</cp:coreProperties>
</file>