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00197-1128-465F-8F0C-3BF0A1BDC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598FC-EC6C-44EB-A90A-A334EA4A2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4FEE0-D0C0-4D43-8C8B-4FB05C078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5377B-C0AB-4B76-B8CB-6FF7ACAE1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D995E-41CE-4902-8BFF-33C2B226C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17579-E6CA-4478-BC64-6EFA4B4DA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F331B-0944-4F45-83FF-4E5229977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6875F-FF74-4A81-969C-CF4873B2B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69386-8E7F-4D77-A585-86D4E3E8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C87E-3DAF-4CC1-8BB0-545B33CF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03D4-846C-4850-BE66-57FACBE65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9139-4B67-4DEE-8E69-9CB133C2B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F0DE-066E-4C63-8A47-307EA2A14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rt-ww1.com/trame/086text.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964720" cy="1143000"/>
          </a:xfrm>
          <a:prstGeom prst="rect">
            <a:avLst/>
          </a:prstGeom>
          <a:solidFill>
            <a:srgbClr val="808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changing theme and tone of World War One poetry as war progressed</a:t>
            </a:r>
            <a:endParaRPr b="0" lang="en-US" sz="24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heme, and tone, of World War One poetry, tells us about the theme and tone of society’s perception of the war as it progressed.</a:t>
            </a:r>
            <a:endParaRPr b="0" lang="en-US" sz="2000" spc="-1" strike="noStrike">
              <a:solidFill>
                <a:srgbClr val="000000"/>
              </a:solidFill>
              <a:latin typeface="Arial"/>
            </a:endParaRPr>
          </a:p>
        </p:txBody>
      </p:sp>
      <p:sp>
        <p:nvSpPr>
          <p:cNvPr id="43" name=""/>
          <p:cNvSpPr/>
          <p:nvPr/>
        </p:nvSpPr>
        <p:spPr>
          <a:xfrm>
            <a:off x="179280" y="2367000"/>
            <a:ext cx="8713800" cy="41119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e learn about society’s perception of the war through the poetry 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in fav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ritish Upper Class officers who consider the war as pride and fantasy gone m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oud and dedicated soldier ready to “do his bit to defend Engl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his private hell and sacrifice will mean someth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hopes that someone else equally as brave will carry on his fight and not fail England in her time of ne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oldier that decides that his sacrifice need not have happened and that he was “tricked” by Europe’s Kings and Emperor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thers, sisters and lo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box(in)"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500" fill="hold"/>
                                        <p:tgtEl>
                                          <p:spTgt spid="43"/>
                                        </p:tgtEl>
                                        <p:attrNameLst>
                                          <p:attrName>ppt_x</p:attrName>
                                        </p:attrNameLst>
                                      </p:cBhvr>
                                      <p:tavLst>
                                        <p:tav tm="0">
                                          <p:val>
                                            <p:strVal val="#ppt_x"/>
                                          </p:val>
                                        </p:tav>
                                        <p:tav tm="100000">
                                          <p:val>
                                            <p:strVal val="#ppt_x"/>
                                          </p:val>
                                        </p:tav>
                                      </p:tavLst>
                                    </p:anim>
                                    <p:anim calcmode="lin" valueType="num">
                                      <p:cBhvr additive="base">
                                        <p:cTn id="1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9640" y="476280"/>
            <a:ext cx="777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What did the soldiers have to say now?</a:t>
            </a:r>
            <a:endParaRPr b="0" lang="en-US" sz="1800" spc="-1" strike="noStrike">
              <a:solidFill>
                <a:srgbClr val="000000"/>
              </a:solidFill>
              <a:latin typeface="Arial"/>
            </a:endParaRPr>
          </a:p>
        </p:txBody>
      </p:sp>
      <p:sp>
        <p:nvSpPr>
          <p:cNvPr id="70" name=""/>
          <p:cNvSpPr/>
          <p:nvPr/>
        </p:nvSpPr>
        <p:spPr>
          <a:xfrm>
            <a:off x="179280" y="836640"/>
            <a:ext cx="4319640" cy="60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port on Experience, by Edmund Blund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been young, and now am not too 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have seen the righteous forsaken (innocent men, defrauded and sacrific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is health, his honour and his quality t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not what we were formerly to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have seen a green country, useful to the ra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nocked silly with guns and mines, its villages v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ven the last rat and kestral banish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788000" y="836640"/>
            <a:ext cx="3960720" cy="1751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eparations for Victo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ays or eternities like swelling wav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rge on, and still we drudge in this dark maze…</a:t>
            </a:r>
            <a:endParaRPr b="0" lang="en-US" sz="1800" spc="-1" strike="noStrike">
              <a:solidFill>
                <a:srgbClr val="000000"/>
              </a:solidFill>
              <a:latin typeface="Arial"/>
            </a:endParaRPr>
          </a:p>
        </p:txBody>
      </p:sp>
      <p:sp>
        <p:nvSpPr>
          <p:cNvPr id="72" name=""/>
          <p:cNvSpPr/>
          <p:nvPr/>
        </p:nvSpPr>
        <p:spPr>
          <a:xfrm>
            <a:off x="4859280" y="2852640"/>
            <a:ext cx="3816360" cy="299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see that war has done to other soldi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see has happened to Europ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unden uses simile to compare what to growing ocean wav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dark maze – literally and metaphor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333360"/>
            <a:ext cx="820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contrast to this style of World War One poetry we have poets who reflect the realisation that the conflict is meaningless. That it was sending young men off to die for the pointless national pride of kings and emperors that lived in worlds disconnected from reality. They had the means to destroy another’s nation – but were not concerned about the individuals and their families that were carrying out their commands. Their countries were tearing each other apart – just because they could.  They had the boats, the guns and the foot soldiers.</a:t>
            </a:r>
            <a:endParaRPr b="0" lang="en-US" sz="1800" spc="-1" strike="noStrike">
              <a:solidFill>
                <a:srgbClr val="000000"/>
              </a:solidFill>
              <a:latin typeface="Arial"/>
            </a:endParaRPr>
          </a:p>
        </p:txBody>
      </p:sp>
      <p:sp>
        <p:nvSpPr>
          <p:cNvPr id="74" name=""/>
          <p:cNvSpPr/>
          <p:nvPr/>
        </p:nvSpPr>
        <p:spPr>
          <a:xfrm>
            <a:off x="468360" y="2565360"/>
            <a:ext cx="525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45720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by F.S Fli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condemned to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lled up to di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 crime of their fath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4788000" y="0"/>
            <a:ext cx="43560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4572000" y="5734080"/>
            <a:ext cx="457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1844640"/>
            <a:ext cx="478800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piece compare to</a:t>
            </a:r>
            <a:r>
              <a:rPr b="0" lang="en-NZ"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upert Brooke’s PEAC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Now, God be thanked</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ho has matched us with his hou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caught our youth, and wakened us from slee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With hand made sure, clear eye, and sharpened power,</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To turn, as swimmers into cleanness leap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Glad from a world grown old and cold and w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Leave the sick hearts that honour could not m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half-men, and their dirty songs and drear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33399"/>
                </a:solidFill>
                <a:latin typeface="Arial"/>
              </a:rPr>
              <a:t>And all the little emptiness of lov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11280" y="620640"/>
            <a:ext cx="381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260280"/>
            <a:ext cx="496908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a:t>
            </a:r>
            <a:r>
              <a:rPr b="0" lang="en-NZ" sz="1800" spc="-1" strike="noStrike">
                <a:solidFill>
                  <a:srgbClr val="000000"/>
                </a:solidFill>
                <a:latin typeface="Arial"/>
              </a:rPr>
              <a:t>continued…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owing, the ripening fru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been torn from their branch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ile the memory of the bloss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s sweet in women’s hea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have been cast for a cruel purpo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the mashing-press and furn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2637000"/>
            <a:ext cx="5076720" cy="4077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compare to Binyo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508720" y="333360"/>
            <a:ext cx="338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ment continu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into each other’s ey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read there the same w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yet! Not y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5796000" y="2637000"/>
            <a:ext cx="295272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is verse compare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9280" y="0"/>
            <a:ext cx="51847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longer possess the 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oad possesse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inherit the ear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earth inherit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are no longer the masters of fi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ire is their m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erve him, he destroys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rule the wat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s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invented a new mon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y fly from its tee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no longer breathe free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enius of the ai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s contrived a new terr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nds them into pie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young men of the worl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re encompassed with d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is all abou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circle of fire and bayon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ep, weep, o wo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old men break your hearts.</a:t>
            </a:r>
            <a:endParaRPr b="0" lang="en-US" sz="1800" spc="-1" strike="noStrike">
              <a:solidFill>
                <a:srgbClr val="000000"/>
              </a:solidFill>
              <a:latin typeface="Arial"/>
            </a:endParaRPr>
          </a:p>
        </p:txBody>
      </p:sp>
      <p:sp>
        <p:nvSpPr>
          <p:cNvPr id="85" name=""/>
          <p:cNvSpPr/>
          <p:nvPr/>
        </p:nvSpPr>
        <p:spPr>
          <a:xfrm>
            <a:off x="4859280" y="162000"/>
            <a:ext cx="3995640" cy="642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Flint have to say about the soldiers control over their futur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have to say about the advancement of m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the “new monster of the se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wo things make up the “genius of the ai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does the last verses compare with this piece of Binyon’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or the Fall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5280" y="333360"/>
            <a:ext cx="4464000" cy="6163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lley of the Shadow, by John Galsworth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I am travelling out to death’s se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exulted in sunshine and laugh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reamed not of dying – death is such waste of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this compare to Brooke’s PEA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364000" y="333360"/>
            <a:ext cx="3529080" cy="4934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lley of the Shadow cont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ant me one prayer: Doom not the hereaf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mankind to war, as though I had not not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who, in battle, my comrade’s arm l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houting and sang – life in my pulses ho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t not my sink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dark be for naught, my death a vain th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let me know it the end of man’s fever!...</a:t>
            </a:r>
            <a:endParaRPr b="0" lang="en-US" sz="1800" spc="-1" strike="noStrike">
              <a:solidFill>
                <a:srgbClr val="000000"/>
              </a:solidFill>
              <a:latin typeface="Arial"/>
            </a:endParaRPr>
          </a:p>
        </p:txBody>
      </p:sp>
      <p:sp>
        <p:nvSpPr>
          <p:cNvPr id="88" name=""/>
          <p:cNvSpPr/>
          <p:nvPr/>
        </p:nvSpPr>
        <p:spPr>
          <a:xfrm>
            <a:off x="5148360" y="5661000"/>
            <a:ext cx="3779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What does this soldier plea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280" y="0"/>
            <a:ext cx="5256360" cy="4123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reakfast, by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t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creeching over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bet a rasher to a loaf of br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Hull United would be Halifax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Jimmy Stainthorpe played full-back inst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Billy Bradford. Ginger raised hi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ursed, and too the bet, and dropt back d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ate our breakfast lying on our back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 shells were stretching overhead.</a:t>
            </a:r>
            <a:endParaRPr b="0" lang="en-US" sz="1800" spc="-1" strike="noStrike">
              <a:solidFill>
                <a:srgbClr val="000000"/>
              </a:solidFill>
              <a:latin typeface="Arial"/>
            </a:endParaRPr>
          </a:p>
        </p:txBody>
      </p:sp>
      <p:sp>
        <p:nvSpPr>
          <p:cNvPr id="90" name=""/>
          <p:cNvSpPr/>
          <p:nvPr/>
        </p:nvSpPr>
        <p:spPr>
          <a:xfrm>
            <a:off x="0" y="4437000"/>
            <a:ext cx="5400720" cy="2454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Mark Anderson, Wilfred Gib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 the low table by the b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it was set aside last n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yond the bandaged lifeless he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glitters in the morning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s the hours of watching pass, </a:t>
            </a:r>
            <a:endParaRPr b="0" lang="en-US" sz="1800" spc="-1" strike="noStrike">
              <a:solidFill>
                <a:srgbClr val="000000"/>
              </a:solidFill>
              <a:latin typeface="Arial"/>
            </a:endParaRPr>
          </a:p>
        </p:txBody>
      </p:sp>
      <p:sp>
        <p:nvSpPr>
          <p:cNvPr id="91" name=""/>
          <p:cNvSpPr/>
          <p:nvPr/>
        </p:nvSpPr>
        <p:spPr>
          <a:xfrm>
            <a:off x="5724360" y="0"/>
            <a:ext cx="34196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annot sleep, I cannot thin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but only gaze upon the gla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ater that he could not drink.</a:t>
            </a:r>
            <a:endParaRPr b="0" lang="en-US" sz="1800" spc="-1" strike="noStrike">
              <a:solidFill>
                <a:srgbClr val="000000"/>
              </a:solidFill>
              <a:latin typeface="Arial"/>
            </a:endParaRPr>
          </a:p>
        </p:txBody>
      </p:sp>
      <p:sp>
        <p:nvSpPr>
          <p:cNvPr id="92" name=""/>
          <p:cNvSpPr/>
          <p:nvPr/>
        </p:nvSpPr>
        <p:spPr>
          <a:xfrm>
            <a:off x="5651640" y="1989000"/>
            <a:ext cx="3241440" cy="1334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Mark Anderso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is the tone of “Breakf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189000"/>
            <a:ext cx="4608360" cy="62096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Target,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shot him, and it had to b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us! ‘Twas him or 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Couldn’t be helped” and none came bl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 for you would do the s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mother, she can’t sleep for fe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what might be a –happening 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me. Perhaps it might be bes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die, and set her fears at res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s a tangle. Here’s my j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might rave, or shout, or s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God He takes no sort of he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a bloody mess indeed.</a:t>
            </a:r>
            <a:endParaRPr b="0" lang="en-US" sz="1800" spc="-1" strike="noStrike">
              <a:solidFill>
                <a:srgbClr val="000000"/>
              </a:solidFill>
              <a:latin typeface="Arial"/>
            </a:endParaRPr>
          </a:p>
        </p:txBody>
      </p:sp>
      <p:sp>
        <p:nvSpPr>
          <p:cNvPr id="94" name=""/>
          <p:cNvSpPr/>
          <p:nvPr/>
        </p:nvSpPr>
        <p:spPr>
          <a:xfrm>
            <a:off x="5651640" y="404640"/>
            <a:ext cx="3024000" cy="326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was the targe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ould it have easily be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soldier think would be best to happ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the soldier think that God cares about them? Explain with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5545080" cy="6626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ilent One, by Ivor Gurn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ied on the wires, and hung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of two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for his hours of life had chattered throug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finite lovely chatter of Bucks acc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t faced unbroken wires; stepped over, and we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noble fool, faithful to his stripes – and end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I weak, hungry, and willing only for the chanc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line – to fight in the line, lay down under unbro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res, and saw the flashes and kept unshak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ll the politest voice – a finicking accent, sai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Do you think you might crawl through,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a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rkness, shot at: I smiled, as politely repl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I’m afraid not, Sir.” There was no ho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way to be seen.</a:t>
            </a:r>
            <a:endParaRPr b="0" lang="en-US" sz="1800" spc="-1" strike="noStrike">
              <a:solidFill>
                <a:srgbClr val="000000"/>
              </a:solidFill>
              <a:latin typeface="Arial"/>
            </a:endParaRPr>
          </a:p>
        </p:txBody>
      </p:sp>
      <p:sp>
        <p:nvSpPr>
          <p:cNvPr id="96" name=""/>
          <p:cNvSpPr/>
          <p:nvPr/>
        </p:nvSpPr>
        <p:spPr>
          <a:xfrm>
            <a:off x="5364000" y="0"/>
            <a:ext cx="352908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but chance of death, after tearing of cloth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Kept flat, and watched the darkn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aring bullets whizzing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ought of music – and swore…</a:t>
            </a:r>
            <a:endParaRPr b="0" lang="en-US" sz="1800" spc="-1" strike="noStrike">
              <a:solidFill>
                <a:srgbClr val="000000"/>
              </a:solidFill>
              <a:latin typeface="Arial"/>
            </a:endParaRPr>
          </a:p>
        </p:txBody>
      </p:sp>
      <p:pic>
        <p:nvPicPr>
          <p:cNvPr id="97" name="" descr="86-Vallotton">
            <a:hlinkClick r:id="rId1"/>
          </p:cNvPr>
          <p:cNvPicPr/>
          <p:nvPr/>
        </p:nvPicPr>
        <p:blipFill>
          <a:blip r:embed="rId2"/>
          <a:stretch/>
        </p:blipFill>
        <p:spPr>
          <a:xfrm>
            <a:off x="5508720" y="2492280"/>
            <a:ext cx="3635280" cy="3484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97"/>
                                        </p:tgtEl>
                                        <p:attrNameLst>
                                          <p:attrName>style.visibility</p:attrName>
                                        </p:attrNameLst>
                                      </p:cBhvr>
                                      <p:to>
                                        <p:strVal val="visible"/>
                                      </p:to>
                                    </p:set>
                                    <p:animEffect filter="checkerboard(across)" transition="in">
                                      <p:cBhvr additive="repl">
                                        <p:cTn id="7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4464000" cy="7044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Deserter, by Winifred M. Let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was a man – don’t mind his n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m Fear had dogged by night and d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could not face the German gu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so he turned and ran aw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who can judge him, you or 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d makes a man of flesh and blo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yearns to live and not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s man when he feared to di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as scared as any frightened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man in abject hear of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fear had gripped him, so had d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ot him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indfolded, when the dawn was gre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stood there in a place apar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hots rang out and down he fe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English bullet in his heart!</a:t>
            </a:r>
            <a:endParaRPr b="0" lang="en-US" sz="1800" spc="-1" strike="noStrike">
              <a:solidFill>
                <a:srgbClr val="000000"/>
              </a:solidFill>
              <a:latin typeface="Arial"/>
            </a:endParaRPr>
          </a:p>
        </p:txBody>
      </p:sp>
      <p:sp>
        <p:nvSpPr>
          <p:cNvPr id="99" name=""/>
          <p:cNvSpPr/>
          <p:nvPr/>
        </p:nvSpPr>
        <p:spPr>
          <a:xfrm>
            <a:off x="4500720" y="0"/>
            <a:ext cx="43560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does Letts tell us about deserters? Give three points, with explanations and examples from the text.</a:t>
            </a:r>
            <a:endParaRPr b="0" lang="en-US" sz="1800" spc="-1" strike="noStrike">
              <a:solidFill>
                <a:srgbClr val="000000"/>
              </a:solidFill>
              <a:latin typeface="Arial"/>
            </a:endParaRPr>
          </a:p>
        </p:txBody>
      </p:sp>
      <p:sp>
        <p:nvSpPr>
          <p:cNvPr id="100" name=""/>
          <p:cNvSpPr/>
          <p:nvPr/>
        </p:nvSpPr>
        <p:spPr>
          <a:xfrm>
            <a:off x="4572000" y="1127160"/>
            <a:ext cx="4321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189000"/>
            <a:ext cx="80643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a:t>
            </a:r>
            <a:r>
              <a:rPr b="1" lang="en-NZ" sz="1600" spc="-1" strike="noStrike">
                <a:solidFill>
                  <a:srgbClr val="000000"/>
                </a:solidFill>
                <a:latin typeface="Arial"/>
              </a:rPr>
              <a:t>All this madness, all this rage, all this flaming death of our civilisation and our hopes, has been brought about because of set of official gentlemen, living in luxurious lives, mostly stupid, and all without imagination or heart, have chosen that it should occur rather than that any one of them should suffer some infinitesimal rebuff to his country’s pride.” </a:t>
            </a:r>
            <a:r>
              <a:rPr b="1" i="1" lang="en-NZ" sz="1600" spc="-1" strike="noStrike">
                <a:solidFill>
                  <a:srgbClr val="000000"/>
                </a:solidFill>
                <a:latin typeface="Arial"/>
              </a:rPr>
              <a:t>Bertrand Russell (1914)</a:t>
            </a:r>
            <a:endParaRPr b="0" lang="en-US" sz="1600" spc="-1" strike="noStrike">
              <a:solidFill>
                <a:srgbClr val="000000"/>
              </a:solidFill>
              <a:latin typeface="Arial"/>
            </a:endParaRPr>
          </a:p>
        </p:txBody>
      </p:sp>
      <p:sp>
        <p:nvSpPr>
          <p:cNvPr id="45" name=""/>
          <p:cNvSpPr/>
          <p:nvPr/>
        </p:nvSpPr>
        <p:spPr>
          <a:xfrm>
            <a:off x="395280" y="15573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his impassioned attack on the declaration of war in August 1914, the philosopher Bertrand Russell was something of a lone voice. At the time, Great Britain was riding a wave of martial and Imperial enthusiasm, and the people very much wanted conflict.</a:t>
            </a:r>
            <a:endParaRPr b="0" lang="en-US" sz="1800" spc="-1" strike="noStrike">
              <a:solidFill>
                <a:srgbClr val="000000"/>
              </a:solidFill>
              <a:latin typeface="Arial"/>
            </a:endParaRPr>
          </a:p>
        </p:txBody>
      </p:sp>
      <p:sp>
        <p:nvSpPr>
          <p:cNvPr id="46" name=""/>
          <p:cNvSpPr/>
          <p:nvPr/>
        </p:nvSpPr>
        <p:spPr>
          <a:xfrm>
            <a:off x="395280" y="2781360"/>
            <a:ext cx="8136000" cy="41119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1. What does the author mean by “civilisation” in this sens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o are the “set of official gentleme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does having “imagination” and “heart” both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If the set of official gentlemen had these attributes, how might things have been differen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5.  What do the words infinitesimal and rebuff mea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 What is an impassioned attack?</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7. What is a “lone voic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What does the author mean when he says that Great Britain was riding a wave of martial and imperial enthusiasm. What is martial and imperial enthusia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44"/>
                                        </p:tgtEl>
                                        <p:attrNameLst>
                                          <p:attrName>style.visibility</p:attrName>
                                        </p:attrNameLst>
                                      </p:cBhvr>
                                      <p:to>
                                        <p:strVal val="visible"/>
                                      </p:to>
                                    </p:set>
                                    <p:animEffect filter="box(in)"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45"/>
                                        </p:tgtEl>
                                        <p:attrNameLst>
                                          <p:attrName>style.visibility</p:attrName>
                                        </p:attrNameLst>
                                      </p:cBhvr>
                                      <p:to>
                                        <p:strVal val="visible"/>
                                      </p:to>
                                    </p:set>
                                    <p:animEffect filter="blinds(horizontal)" transition="in">
                                      <p:cBhvr additive="repl">
                                        <p:cTn id="30" dur="5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base">
                                        <p:cTn id="35" dur="500" fill="hold"/>
                                        <p:tgtEl>
                                          <p:spTgt spid="46"/>
                                        </p:tgtEl>
                                        <p:attrNameLst>
                                          <p:attrName>ppt_x</p:attrName>
                                        </p:attrNameLst>
                                      </p:cBhvr>
                                      <p:tavLst>
                                        <p:tav tm="0">
                                          <p:val>
                                            <p:strVal val="#ppt_x"/>
                                          </p:val>
                                        </p:tav>
                                        <p:tav tm="100000">
                                          <p:val>
                                            <p:strVal val="#ppt_x"/>
                                          </p:val>
                                        </p:tav>
                                      </p:tavLst>
                                    </p:anim>
                                    <p:anim calcmode="lin" valueType="num">
                                      <p:cBhvr additive="base">
                                        <p:cTn id="3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95280" y="549360"/>
            <a:ext cx="446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icide in the Trenches, by Siegfried Sasso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knew a simple soldier b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grinned at life in empty jo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lept soundly through the lonesom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whistled early with the l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winter trenches, cowed and gl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crumps and lice and lack of ru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put a bullet through his br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one spoke of him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smug-faced crowds with kindling ey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cheer when solder lads march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neak home and pray you’ll never kn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ell where youth and laughter g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64000" y="404640"/>
            <a:ext cx="35290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1. Sassoon was a British officer in the army. Name two emotions expressed by Sassoon in this poem. Provide examples of their existence by finding text from the poem to support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68360" y="26028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Soldiers Come Home…</a:t>
            </a:r>
            <a:endParaRPr b="0" lang="en-US" sz="1800" spc="-1" strike="noStrike">
              <a:solidFill>
                <a:srgbClr val="000000"/>
              </a:solidFill>
              <a:latin typeface="Arial"/>
            </a:endParaRPr>
          </a:p>
        </p:txBody>
      </p:sp>
      <p:sp>
        <p:nvSpPr>
          <p:cNvPr id="104" name=""/>
          <p:cNvSpPr/>
          <p:nvPr/>
        </p:nvSpPr>
        <p:spPr>
          <a:xfrm>
            <a:off x="0" y="620640"/>
            <a:ext cx="6121440" cy="454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rvivors,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doubt they’ll soon get well; the shock and strai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ave caused their stammering, disconnected t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course they’re “longing to go out again”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boys with old, scared faces, learning to wal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ll soon forget their haunted nights; their cow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bjection to the ghosts of friends who died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ir dreams that drip with murder; and they’ll be prou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f glorious war that shatter’d all their pr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n who sent out to battle, grim and gla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ildren, with eyes that hate you, broken and mad.</a:t>
            </a:r>
            <a:endParaRPr b="0" lang="en-US" sz="1800" spc="-1" strike="noStrike">
              <a:solidFill>
                <a:srgbClr val="000000"/>
              </a:solidFill>
              <a:latin typeface="Arial"/>
            </a:endParaRPr>
          </a:p>
        </p:txBody>
      </p:sp>
      <p:sp>
        <p:nvSpPr>
          <p:cNvPr id="105" name=""/>
          <p:cNvSpPr/>
          <p:nvPr/>
        </p:nvSpPr>
        <p:spPr>
          <a:xfrm>
            <a:off x="6300720" y="333360"/>
            <a:ext cx="2843280" cy="2848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 the doctors expect will happen to the soldiers home on rehabilitation lea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Sassoon believe about the Survivo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the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53640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es it Matter? By Siegfried Sasso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le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you need not show that you m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others come in after hun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gobble their muffins and egg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es it matter? – losing your s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s such splendid work for the bl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ill always be ki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s you sit on the terrace remember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urning your face to the ligh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148360" y="2852640"/>
            <a:ext cx="381636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is the tone of Sassoon’s poem? Explain why you think this and provide examples from the text.</a:t>
            </a:r>
            <a:endParaRPr b="0" lang="en-US" sz="1800" spc="-1" strike="noStrike">
              <a:solidFill>
                <a:srgbClr val="000000"/>
              </a:solidFill>
              <a:latin typeface="Arial"/>
            </a:endParaRPr>
          </a:p>
        </p:txBody>
      </p:sp>
      <p:sp>
        <p:nvSpPr>
          <p:cNvPr id="108" name=""/>
          <p:cNvSpPr/>
          <p:nvPr/>
        </p:nvSpPr>
        <p:spPr>
          <a:xfrm>
            <a:off x="4643280" y="333360"/>
            <a:ext cx="4500720" cy="215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they matter? – those dreams in the p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ou can drink and forget and be gl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people won’t say that you’re m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they know that you’ve fought for your coun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no one will worry a bi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52360" y="0"/>
            <a:ext cx="6048360" cy="666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War Film, by Teresa Hooley</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sa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with a catch of the breath and the heart’s uplifting,</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orrow and pride, the “week’s great draw”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ns Retrea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As in a d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till hearing the machine-guns rattle and shells scream,</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 came out into the stree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en the day was d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ondered at bath-time why I kissed him s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t>
            </a:r>
            <a:r>
              <a:rPr b="0" lang="en-NZ" sz="1600" spc="-1" strike="noStrike">
                <a:solidFill>
                  <a:srgbClr val="000000"/>
                </a:solidFill>
                <a:latin typeface="Arial"/>
              </a:rPr>
              <a:t>How c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sudden terror that assaulted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body I had bor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Nine months beneath my hear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 part of 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f, someday,</a:t>
            </a:r>
            <a:endParaRPr b="0" lang="en-US" sz="1600" spc="-1" strike="noStrike">
              <a:solidFill>
                <a:srgbClr val="000000"/>
              </a:solidFill>
              <a:latin typeface="Arial"/>
            </a:endParaRPr>
          </a:p>
        </p:txBody>
      </p:sp>
      <p:sp>
        <p:nvSpPr>
          <p:cNvPr id="110" name=""/>
          <p:cNvSpPr/>
          <p:nvPr/>
        </p:nvSpPr>
        <p:spPr>
          <a:xfrm>
            <a:off x="5580000" y="0"/>
            <a:ext cx="3564000" cy="6380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t should be taken awa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war. Tortured. Tor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lai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otting in No Man’s Lan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ut in the rain –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y little son…</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Yet all those men had mothers, every on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ow should he know</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y I kissed and kissed and kissed him, crooning his n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that I was daf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e thought it was a gam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nd laug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0"/>
            <a:ext cx="7991280" cy="91692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Germany had heavily remilitarised during the reign of Kaiser Wilhelm II, and began massing its army on the border with Belgium. It seemed clear that an invasion of Belgium was imminent. </a:t>
            </a:r>
            <a:endParaRPr b="0" lang="en-US" sz="1800" spc="-1" strike="noStrike">
              <a:solidFill>
                <a:srgbClr val="000000"/>
              </a:solidFill>
              <a:latin typeface="Arial"/>
            </a:endParaRPr>
          </a:p>
        </p:txBody>
      </p:sp>
      <p:sp>
        <p:nvSpPr>
          <p:cNvPr id="48" name=""/>
          <p:cNvSpPr/>
          <p:nvPr/>
        </p:nvSpPr>
        <p:spPr>
          <a:xfrm>
            <a:off x="250920" y="907920"/>
            <a:ext cx="813600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response to this, British Prime Minister, Herbert Asquith, instructed his Foreign Secretary, Edward Grey, to issue an ultimatum: if Germany did not give Belgium an assurance of safety, then Britain would intervene on her side, and war would be declared. </a:t>
            </a:r>
            <a:endParaRPr b="0" lang="en-US" sz="1800" spc="-1" strike="noStrike">
              <a:solidFill>
                <a:srgbClr val="000000"/>
              </a:solidFill>
              <a:latin typeface="Arial"/>
            </a:endParaRPr>
          </a:p>
        </p:txBody>
      </p:sp>
      <p:sp>
        <p:nvSpPr>
          <p:cNvPr id="49" name=""/>
          <p:cNvSpPr/>
          <p:nvPr/>
        </p:nvSpPr>
        <p:spPr>
          <a:xfrm>
            <a:off x="324000" y="2060640"/>
            <a:ext cx="8207280" cy="9169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deadline for this assurance was 11pm on 4 August 1914: a warm Bank Holiday weekend, in a long and pleasant summer. No such assurance was given.</a:t>
            </a:r>
            <a:endParaRPr b="0" lang="en-US" sz="1800" spc="-1" strike="noStrike">
              <a:solidFill>
                <a:srgbClr val="000000"/>
              </a:solidFill>
              <a:latin typeface="Arial"/>
            </a:endParaRPr>
          </a:p>
        </p:txBody>
      </p:sp>
      <p:sp>
        <p:nvSpPr>
          <p:cNvPr id="50" name=""/>
          <p:cNvSpPr/>
          <p:nvPr/>
        </p:nvSpPr>
        <p:spPr>
          <a:xfrm>
            <a:off x="324000" y="3068640"/>
            <a:ext cx="8207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owds gathered in Trafalgar Square and outside Buckingham Palace to cheer the announcement of war. Most people believed that it would all be over by Christmas: that they were going to teach the Germans a swift lesson, and then get back to the business of running the great British Empire. They were wrong.</a:t>
            </a:r>
            <a:endParaRPr b="0" lang="en-US" sz="1800" spc="-1" strike="noStrike">
              <a:solidFill>
                <a:srgbClr val="000000"/>
              </a:solidFill>
              <a:latin typeface="Arial"/>
            </a:endParaRPr>
          </a:p>
        </p:txBody>
      </p:sp>
      <p:sp>
        <p:nvSpPr>
          <p:cNvPr id="51" name=""/>
          <p:cNvSpPr/>
          <p:nvPr/>
        </p:nvSpPr>
        <p:spPr>
          <a:xfrm>
            <a:off x="250920" y="4365720"/>
            <a:ext cx="8424720" cy="23115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remilitarised, imminent and massing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ultimatu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an assuran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intervene mea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the last paragraph tell us about the British view of their supremacy? Explain with evidence from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500" fill="hold"/>
                                        <p:tgtEl>
                                          <p:spTgt spid="47"/>
                                        </p:tgtEl>
                                        <p:attrNameLst>
                                          <p:attrName>ppt_x</p:attrName>
                                        </p:attrNameLst>
                                      </p:cBhvr>
                                      <p:tavLst>
                                        <p:tav tm="0">
                                          <p:val>
                                            <p:strVal val="#ppt_x"/>
                                          </p:val>
                                        </p:tav>
                                        <p:tav tm="100000">
                                          <p:val>
                                            <p:strVal val="#ppt_x"/>
                                          </p:val>
                                        </p:tav>
                                      </p:tavLst>
                                    </p:anim>
                                    <p:anim calcmode="lin" valueType="num">
                                      <p:cBhvr additive="base">
                                        <p:cTn id="4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ppt_x"/>
                                          </p:val>
                                        </p:tav>
                                        <p:tav tm="100000">
                                          <p:val>
                                            <p:strVal val="#ppt_x"/>
                                          </p:val>
                                        </p:tav>
                                      </p:tavLst>
                                    </p:anim>
                                    <p:anim calcmode="lin" valueType="num">
                                      <p:cBhvr additive="base">
                                        <p:cTn id="5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
                                        </p:tgtEl>
                                        <p:attrNameLst>
                                          <p:attrName>style.visibility</p:attrName>
                                        </p:attrNameLst>
                                      </p:cBhvr>
                                      <p:to>
                                        <p:strVal val="visible"/>
                                      </p:to>
                                    </p:set>
                                    <p:anim calcmode="lin" valueType="num">
                                      <p:cBhvr additive="base">
                                        <p:cTn id="61" dur="500" fill="hold"/>
                                        <p:tgtEl>
                                          <p:spTgt spid="50"/>
                                        </p:tgtEl>
                                        <p:attrNameLst>
                                          <p:attrName>ppt_x</p:attrName>
                                        </p:attrNameLst>
                                      </p:cBhvr>
                                      <p:tavLst>
                                        <p:tav tm="0">
                                          <p:val>
                                            <p:strVal val="#ppt_x"/>
                                          </p:val>
                                        </p:tav>
                                        <p:tav tm="100000">
                                          <p:val>
                                            <p:strVal val="#ppt_x"/>
                                          </p:val>
                                        </p:tav>
                                      </p:tavLst>
                                    </p:anim>
                                    <p:anim calcmode="lin" valueType="num">
                                      <p:cBhvr additive="base">
                                        <p:cTn id="6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diamond(in)" transition="in">
                                      <p:cBhvr additive="repl">
                                        <p:cTn id="6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95280" y="189000"/>
            <a:ext cx="842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the early stages poetry played a considerable part in drumming up support for the conflict. Robert Bridges was one of the poets who encouraged young men to “stand up and meet the war because the Hun is at the gate”.</a:t>
            </a:r>
            <a:endParaRPr b="0" lang="en-US" sz="1800" spc="-1" strike="noStrike">
              <a:solidFill>
                <a:srgbClr val="000000"/>
              </a:solidFill>
              <a:latin typeface="Arial"/>
            </a:endParaRPr>
          </a:p>
        </p:txBody>
      </p:sp>
      <p:sp>
        <p:nvSpPr>
          <p:cNvPr id="53" name=""/>
          <p:cNvSpPr/>
          <p:nvPr/>
        </p:nvSpPr>
        <p:spPr>
          <a:xfrm>
            <a:off x="395280" y="1197000"/>
            <a:ext cx="849780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ecret War Propaganda Bureau was formed and many poets wrote to support the war. For example, Laurence Binyon who wrote “For the Fallen”. Binyon did not go to war. He never came face to face with the realities of the rat and lice infested, water and mud-filled trenches. He never experienced the mixture of boredom (tedium), fear and futility: the sensation that what you were part of was a meaningless struggle begun by Europe’s leaders and supported by others who also didn’t realise the depth of the horror experienced by the soldiers on all sides of the confli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might not have expressed the war as a “game” to be “joined”, but he did “glorify” war. He gave death and self-sacrifice the level of royalty and the highest honour. Tears are alright because they are met by the glory of G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inyon also paints a vivid image of the soldiers being brave and “staunch” in the face of the enemy; even till their deaths. He paints them as being strong, alert and glowing with the certainty that their task was worthwhile.  Binyon never saw them die in the mud, or cry for their mothers. Binyon never lived in fear for his life or his sa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788000" y="260280"/>
            <a:ext cx="4033800" cy="270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shall not grow old, as we that are left grow o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ge shall not weary them, not the years conde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going down of the sun and in the mor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will remember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0" y="0"/>
            <a:ext cx="4572000" cy="68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or the Fall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proud thanksgiving, a mother for he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gland mourns for her dead across the s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lesh of her flesh they were, spirit of her spiri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allen in the cause of the fr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lemn the drums thrill; Death august and roy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gs sorrow up into immortal sphe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music in the midst of deso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 glory that shines upon our t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nt with songs to the battle; they were you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raight of limb, true of eye, steady and ag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ere staunch to the end against odds uncoun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fell with their faces to the fo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859280" y="2276640"/>
            <a:ext cx="4105440" cy="40093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1. In what ways has Binyon given the soldiers religious or biblical heroic attributes?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2. In what ways has Binyon given the struggle and hardship the highest honour?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 In what ways has Binyon shown that the soldiers were unfailingly strong and unfailingly good young people. Explain with exampl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4. What is it about the theme and tone of Binyon’s poem we hold onto today. When and Wh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33336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upert Brooke was another poet that wrote about the war being a place of “heroic” sacrifice. He was ambivalent about the conflict to begin with, but joined up and threw himself into thoughts and dreams of achieving military “glory”. Like so many of his upper class, his generation and schooling, he looked at the war with pride and necessary sacrifice.</a:t>
            </a:r>
            <a:endParaRPr b="0" lang="en-US" sz="1800" spc="-1" strike="noStrike">
              <a:solidFill>
                <a:srgbClr val="000000"/>
              </a:solidFill>
              <a:latin typeface="Arial"/>
            </a:endParaRPr>
          </a:p>
        </p:txBody>
      </p:sp>
      <p:sp>
        <p:nvSpPr>
          <p:cNvPr id="58" name=""/>
          <p:cNvSpPr/>
          <p:nvPr/>
        </p:nvSpPr>
        <p:spPr>
          <a:xfrm>
            <a:off x="250920" y="2133720"/>
            <a:ext cx="8642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saw a little bit of conflict, but as he died in 1915 of blood poisoning on his ship in the Greek islands, his poetry never moved away from the fantasy of war being glory and sacrifice. He became known as a war hero when he died and his poems were used by propagandists to promote the conflict in England because they celebrated the idea of giving one’s life for one’s country.</a:t>
            </a:r>
            <a:endParaRPr b="0" lang="en-US" sz="1800" spc="-1" strike="noStrike">
              <a:solidFill>
                <a:srgbClr val="000000"/>
              </a:solidFill>
              <a:latin typeface="Arial"/>
            </a:endParaRPr>
          </a:p>
        </p:txBody>
      </p:sp>
      <p:sp>
        <p:nvSpPr>
          <p:cNvPr id="59" name=""/>
          <p:cNvSpPr/>
          <p:nvPr/>
        </p:nvSpPr>
        <p:spPr>
          <a:xfrm>
            <a:off x="179280" y="386064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50920" y="260280"/>
            <a:ext cx="4608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35280" y="0"/>
            <a:ext cx="5256000" cy="407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eace, by Rupert Brook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God be than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has matched us with his h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caught our youth, and wakened us from slee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ith hand made sure, clear eye, and sharpened pow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turn, as swimmers into cleanness lea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lad from a world grown old and cold and w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eave the sick hearts that honour could not m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half-men, and their dirty songs and dre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all the little emptiness of lo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84360" y="3879720"/>
            <a:ext cx="7488000" cy="2717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does Brooke thank for the opportunity that war brings?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see himself and other young gentlemen like? Include the quot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Brooke mean about into cleanness leaping? What is this cleannes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does he think of those who have not joined the war voluntarily? What attribute does he think they l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260280"/>
            <a:ext cx="7993080" cy="1882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rooke also considered that the sacrifice of war was a rebirth; a baptism or a chance for redemption, absolution or forgiveness of sins committed in this life-time. The war’s </a:t>
            </a:r>
            <a:r>
              <a:rPr b="0" i="1" lang="en-NZ" sz="1800" spc="-1" strike="noStrike">
                <a:solidFill>
                  <a:srgbClr val="000000"/>
                </a:solidFill>
                <a:latin typeface="Arial"/>
              </a:rPr>
              <a:t>CONFLICT </a:t>
            </a:r>
            <a:r>
              <a:rPr b="0" lang="en-NZ" sz="1800" spc="-1" strike="noStrike">
                <a:solidFill>
                  <a:srgbClr val="000000"/>
                </a:solidFill>
                <a:latin typeface="Arial"/>
              </a:rPr>
              <a:t> has given the opportunity for </a:t>
            </a:r>
            <a:r>
              <a:rPr b="0" i="1" lang="en-NZ" sz="1800" spc="-1" strike="noStrike">
                <a:solidFill>
                  <a:srgbClr val="000000"/>
                </a:solidFill>
                <a:latin typeface="Arial"/>
              </a:rPr>
              <a:t>EMOTIONAL PEACE!!!!!!!  </a:t>
            </a:r>
            <a:r>
              <a:rPr b="1" lang="en-NZ" sz="1800" spc="-1" strike="noStrike">
                <a:solidFill>
                  <a:srgbClr val="000000"/>
                </a:solidFill>
                <a:latin typeface="Arial"/>
              </a:rPr>
              <a:t>I’d like to know what he did!</a:t>
            </a:r>
            <a:r>
              <a:rPr b="0" lang="en-NZ" sz="1800" spc="-1" strike="noStrike">
                <a:solidFill>
                  <a:srgbClr val="000000"/>
                </a:solidFill>
                <a:latin typeface="Arial"/>
              </a:rPr>
              <a:t> Check the second half of “Peace” out and a line in “The Soldi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4000" y="1844640"/>
            <a:ext cx="4248000" cy="39690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h! We, who have known sham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have found releas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re there’s no ill, no grief, but sleep in m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aught broken save the body, lost but brea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hing to shake the laughing heart’s long peace th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t only agony, and that has end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e worst friend and enemy is but death.</a:t>
            </a:r>
            <a:endParaRPr b="0" lang="en-US" sz="1800" spc="-1" strike="noStrike">
              <a:solidFill>
                <a:srgbClr val="000000"/>
              </a:solidFill>
              <a:latin typeface="Arial"/>
            </a:endParaRPr>
          </a:p>
        </p:txBody>
      </p:sp>
      <p:sp>
        <p:nvSpPr>
          <p:cNvPr id="65" name=""/>
          <p:cNvSpPr/>
          <p:nvPr/>
        </p:nvSpPr>
        <p:spPr>
          <a:xfrm>
            <a:off x="250920" y="5950080"/>
            <a:ext cx="4392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think, this heart, all evil shed away,…</a:t>
            </a:r>
            <a:endParaRPr b="0" lang="en-US" sz="1800" spc="-1" strike="noStrike">
              <a:solidFill>
                <a:srgbClr val="000000"/>
              </a:solidFill>
              <a:latin typeface="Arial"/>
            </a:endParaRPr>
          </a:p>
        </p:txBody>
      </p:sp>
      <p:sp>
        <p:nvSpPr>
          <p:cNvPr id="66" name=""/>
          <p:cNvSpPr/>
          <p:nvPr/>
        </p:nvSpPr>
        <p:spPr>
          <a:xfrm>
            <a:off x="4716360" y="2349360"/>
            <a:ext cx="396108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is Brooke being released from?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people do this today? Do they use conflict around them, or business to take their minds of stuff that bugs them? Explain with an exam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ultimate arrival at “peace” for Brooke appears to be death. What does Brooke call death?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ccording to Brooke, what is the soldier who sacrificed himself in WWI like, when he goes to heaven? Provide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9640" y="765000"/>
            <a:ext cx="4608720" cy="495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mon Form, by Rudyard Kipl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f any question why we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ell them, because our fathers l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 Dead Statesman (politicia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could not dig;  I dared not r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fore I lied to please the mo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w all my lies are proved untru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I must face the men I slew.</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tale shall serve me here amo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ine angry and defrauded yo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364000" y="0"/>
            <a:ext cx="3097440" cy="658080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the Dordogne, by John Peele Bish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a:r>
            <a:r>
              <a:rPr b="0" lang="en-NZ" sz="1800" spc="-1" strike="noStrike">
                <a:solidFill>
                  <a:srgbClr val="000000"/>
                </a:solidFill>
                <a:latin typeface="Arial"/>
              </a:rPr>
              <a:t>And each day one died or another died: each week we sent out thousan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at returned by hundr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ounded or gassed. And those that d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buried close to the old wa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d because we had courag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ecause there was courage and youth ready to be wasted; because we endured and were prepared for all the endurance; we thought something must come of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0T21:22:53Z</dcterms:created>
  <dc:creator>maryvanro</dc:creator>
  <dc:description/>
  <dc:language>en-US</dc:language>
  <cp:lastModifiedBy>maryvanro</cp:lastModifiedBy>
  <dcterms:modified xsi:type="dcterms:W3CDTF">2007-05-24T23:58:38Z</dcterms:modified>
  <cp:revision>123</cp:revision>
  <dc:subject/>
  <dc:title>Slide 1</dc:title>
</cp:coreProperties>
</file>