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2D98E-4C43-43A3-8E65-A6B4DCCF7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515C7-54FD-4BC2-B1FC-5B85F357E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902C0-A111-4701-BC08-1084A5FFB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B61F9-34D3-48DE-84FB-676996EF9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98452-25D7-4753-95B5-4CEB232BE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1014F-E451-4A56-BBB1-D7EDA462B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E67FC-E365-4FE6-A765-03C7F7163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7E06D-5EAD-4E5D-83EC-74F1C5371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3DDA3-BA5A-4B7D-9FEB-65D50FD73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A6A94-6734-47EE-B467-AD5BA1FEC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D95AD-FF58-490C-BE1B-991682707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D0D8D-8F97-4B23-B5F2-0D0F0313E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37B58-6596-418D-9906-DFF14DB31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DC913-9723-4CC2-A584-EB6F16514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60193-1750-4046-AFDB-626325AFF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D3E9E-C671-4C77-926D-C79E5CADE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BAE08-F054-40B9-A246-9589DA0BD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02B24-ECCD-4F2F-AE6F-16028F2A7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DA2A0-CD37-4C91-AC18-FC7CA69E5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DD9B0-21DC-47F5-88E1-65151C824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32324-CDC1-442F-9531-6EEAED19E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3EC5-F226-4E81-A096-DE1EAAECD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AD2D3-EED5-4803-9F83-EC3C3590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BEA4B-5A10-480C-A5BE-22E702781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7D65-EB50-442B-AFDD-57205012DC2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A095-B853-4D73-A65C-AE397923FD3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2 Wide Reading Unit Standard 12905</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4 Level Two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NINE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nine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12905</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2T02:17:48Z</dcterms:modified>
  <cp:revision>46</cp:revision>
  <dc:subject/>
  <dc:title>Slide 1</dc:title>
</cp:coreProperties>
</file>