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999E0-A630-4C0F-BDAB-3C7C507BB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209E7-0A59-4567-B2ED-957EFF95D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CAD42-0B14-4C65-982B-961B0F148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05605-C46E-4258-B0B6-8BF6B07D4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A3EDC-651B-433F-A8A5-9CC94CB1F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1CEE2-B95A-4707-B218-E5FA0465D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65559-BA92-4BB9-A533-3B3E957A3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95E4E-D0BE-482D-AB5D-874E2F1D7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BA606-AABF-49EE-9AB8-028028B40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F39FF-10A3-4EF7-9F03-7523C7B26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17F58-A147-469E-9680-C0A1D0D75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F4CA6-2F4E-41E1-AC86-1E63E6BE2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92248-1537-4195-8286-E7A1F5AC9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4216F-DDCC-4796-A051-5B5E94401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47FA3-E6B2-4EA0-86B4-BFDAAF450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AC457-160A-4274-AF81-0F0E18CE9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261DE-A8B1-43F9-AA8F-E9222497D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1D942-345B-43E1-B4B4-313EC173B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18896-6A3D-4BE4-8B19-C8CFEC2B9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79EAE-2E6D-4A7B-83EA-C572B8794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8C4F1-F609-47EE-B5A1-DE1EF27B8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EDC97-018A-4444-9492-41F21CD81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577B9-5628-4D5E-B80B-A6173D6FB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F018C-DFC3-4CEE-9526-E9356DB4C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2E21-BC03-45CE-B370-5F896720314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09F1-B99C-4659-8DB0-F3DC583D6F8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1 Wide Reading Unit Standard 8808</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3 Level one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SIX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Tents and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six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8808</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5T22:36:15Z</dcterms:modified>
  <cp:revision>51</cp:revision>
  <dc:subject/>
  <dc:title>Slide 1</dc:title>
</cp:coreProperties>
</file>