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FBE78-DF94-4FD5-97CB-56645E980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075DE-F0A8-4FFF-A89D-4BD172C98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CCFCB-4A62-4CA1-A7E6-CB2E8BE13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AB3B6-AF64-4B72-BA04-0D31BABD4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EAB08-052C-49E7-965F-0F8ACA59F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17980-D4C8-4212-8E14-1B9834544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002C6-A511-4CF6-93EE-7ED44547D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65218-C9E2-4F8B-971A-37F3F8F23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546EC-5AC7-400B-B083-088D3B8CB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EF125-0901-49A4-8730-3D426BBCE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CF65A-DBBF-41C3-8890-54FD462FF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B005B-A47E-4669-B00B-432DEE699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C90CE-183A-4475-9F88-A883F0C78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C52C1-3E77-404B-ACBD-CE6672DF1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9E36C-1C15-4864-B674-227BE19AD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DB989-9A71-44B7-BC70-EF91BF01B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E94D72-CE83-42E2-A8D4-C1EACBE19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88C09-962C-46E5-89DF-76743EBAA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D6C8F-B5AC-4241-B5D0-D41A4E013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19A8C-04DC-4BC4-8AD9-5C0111FC7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CFF35-7606-4843-B585-5F0B222D8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3063-BCDB-4D9C-85AA-6AB84B4F3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D9B81-2CFE-40A7-A4AF-01FFCEE5C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BA5A7-9FEE-47E0-B7DE-EDB23A525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6F94-63A0-4CA8-8DAE-90AE5EEC12A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4676-AF5E-495F-969E-A8FD994CF57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1 Wide Reading Unit Standard 8808</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3 Level one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SIX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Tents and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six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8808</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5T22:36:15Z</dcterms:modified>
  <cp:revision>51</cp:revision>
  <dc:subject/>
  <dc:title>Slide 1</dc:title>
</cp:coreProperties>
</file>