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CFDDD-9A83-4683-9DD3-64296358D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D2C54-513E-46F6-96BB-0393639DF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029C5-2E78-45EF-8E1B-E9111AD08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5C7B9-E525-4578-ABCE-33D7375A4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4D5B3-AAE7-40B9-8EEE-502DD2B75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DFD06-6836-49C0-BC7E-38901ADED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25BD8-EBFD-477A-8A73-AE1127C2B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E6FBC-B419-4F2E-A496-305C7D6FE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BFA11-46D1-461A-B099-7B3A247D5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AC121-06D2-4683-AE46-77AB5F207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6AFEF-9158-4B84-AA46-8835C76AB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AC9B3-0227-43F5-9E0E-241B24259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2E549-E2F6-4420-AF60-AFF243DAE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FD002-C5BE-4171-8068-591D34E05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D24BC-4A59-487F-A1B8-D54A83C63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80B6E-9084-48DF-B8F7-7429992D6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9C560-2046-480A-B653-7A9062B51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B6495-10C9-4606-861E-3D3AB27A2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42388-6C32-41D2-BC39-965688C3B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B38E7-932F-4BAD-9310-692F3DABE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AE49C-3DC8-4F5A-A28D-B09CF3790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C2093-7397-4373-B2DB-ADE22E2DB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04E6-B2EC-41A9-AABE-FFFB543F5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A9534-931F-4409-B647-6D1A1BB90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3CAB-363C-4692-96C1-8E3D6C70ED3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0DF6-3E39-46D5-892C-834ED6C5692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ecff"/>
                </a:solidFill>
                <a:latin typeface="Arial"/>
              </a:rPr>
              <a:t>Year 12 Wide Reading Unit Standard 12905</a:t>
            </a:r>
            <a:endParaRPr b="0" lang="en-US" sz="4800" spc="-1" strike="noStrike">
              <a:solidFill>
                <a:srgbClr val="ccecff"/>
              </a:solidFill>
              <a:latin typeface="Arial"/>
            </a:endParaRPr>
          </a:p>
        </p:txBody>
      </p:sp>
      <p:sp>
        <p:nvSpPr>
          <p:cNvPr id="212" name="PlaceHolder 2"/>
          <p:cNvSpPr>
            <a:spLocks noGrp="1"/>
          </p:cNvSpPr>
          <p:nvPr>
            <p:ph type="subTitle"/>
          </p:nvPr>
        </p:nvSpPr>
        <p:spPr>
          <a:xfrm>
            <a:off x="1115640" y="2060640"/>
            <a:ext cx="6985080" cy="720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get : 4 Level Two Credits at Achieved Level</a:t>
            </a:r>
            <a:endParaRPr b="0" lang="en-US" sz="2400" spc="-1" strike="noStrike">
              <a:solidFill>
                <a:srgbClr val="ffffff"/>
              </a:solidFill>
              <a:latin typeface="Arial"/>
            </a:endParaRPr>
          </a:p>
        </p:txBody>
      </p:sp>
      <p:sp>
        <p:nvSpPr>
          <p:cNvPr id="213" name=""/>
          <p:cNvSpPr/>
          <p:nvPr/>
        </p:nvSpPr>
        <p:spPr>
          <a:xfrm>
            <a:off x="539640" y="2781360"/>
            <a:ext cx="80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read</a:t>
            </a:r>
            <a:r>
              <a:rPr b="0" lang="en-NZ" sz="1800" spc="-1" strike="noStrike">
                <a:solidFill>
                  <a:srgbClr val="ffffff"/>
                </a:solidFill>
                <a:latin typeface="Arial"/>
              </a:rPr>
              <a:t>: two novels, and a selection of poetry, short stories, non-fiction like: autobiographies, biographies, sports how tos, car how tos, etc. You read non-fiction articles which are long! E.g. At least half a page of newspaper print or spread over three pages in a magazine. </a:t>
            </a:r>
            <a:endParaRPr b="0" lang="en-US" sz="1800" spc="-1" strike="noStrike">
              <a:solidFill>
                <a:srgbClr val="ffffff"/>
              </a:solidFill>
              <a:latin typeface="Arial"/>
            </a:endParaRPr>
          </a:p>
        </p:txBody>
      </p:sp>
      <p:sp>
        <p:nvSpPr>
          <p:cNvPr id="214" name=""/>
          <p:cNvSpPr/>
          <p:nvPr/>
        </p:nvSpPr>
        <p:spPr>
          <a:xfrm>
            <a:off x="684360" y="4653000"/>
            <a:ext cx="79200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You write NINE responses. These consist of the bibliographic details/ What the writing is about/ and three paragraphs of Statement/explanation/ 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Commenting on non-fiction</a:t>
            </a:r>
            <a:endParaRPr b="0" lang="en-US" sz="2800" spc="-1" strike="noStrike">
              <a:solidFill>
                <a:srgbClr val="ccecff"/>
              </a:solidFill>
              <a:latin typeface="Arial"/>
            </a:endParaRPr>
          </a:p>
        </p:txBody>
      </p:sp>
      <p:sp>
        <p:nvSpPr>
          <p:cNvPr id="232" name="PlaceHolder 2"/>
          <p:cNvSpPr>
            <a:spLocks noGrp="1"/>
          </p:cNvSpPr>
          <p:nvPr>
            <p:ph/>
          </p:nvPr>
        </p:nvSpPr>
        <p:spPr>
          <a:xfrm>
            <a:off x="324000" y="980640"/>
            <a:ext cx="88200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text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mments – statement, explanation and examples from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did you learn from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re there any illustrations – did they help your understanding of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be able to do anything differently after learn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think about certain things differently as a result of read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this article make me feel?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y was tha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would you like to be able to do to make things bett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uld you do what the people in the article had to 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about being in that situat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Commenting on non-fiction Newspaper or magazine articles</a:t>
            </a:r>
            <a:endParaRPr b="0" lang="en-US" sz="2400" spc="-1" strike="noStrike">
              <a:solidFill>
                <a:srgbClr val="ccecff"/>
              </a:solidFill>
              <a:latin typeface="Arial"/>
            </a:endParaRPr>
          </a:p>
        </p:txBody>
      </p:sp>
      <p:sp>
        <p:nvSpPr>
          <p:cNvPr id="234" name="PlaceHolder 2"/>
          <p:cNvSpPr>
            <a:spLocks noGrp="1"/>
          </p:cNvSpPr>
          <p:nvPr>
            <p:ph/>
          </p:nvPr>
        </p:nvSpPr>
        <p:spPr>
          <a:xfrm>
            <a:off x="324000" y="980640"/>
            <a:ext cx="8820000" cy="58770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Article</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Magazine or Newspaper that it came from</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Autho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the text was abou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mments x 3</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other words I want three paragraphs. You make a statement, explain what you mean and provide evidence from the writ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Eg. The victims of the Chinese earthquake need resources fast. By this I mean there is no fresh water, shelter or food. For example, in the text it states “the Minister of Fruitcake has asked groups around the world to donate tents, medicine and foo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 </a:t>
            </a:r>
            <a:r>
              <a:rPr b="0" lang="en-NZ" sz="1600" spc="-1" strike="noStrike">
                <a:solidFill>
                  <a:srgbClr val="ffffff"/>
                </a:solidFill>
                <a:latin typeface="Arial"/>
              </a:rPr>
              <a:t>statement, explanation and examples from tex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did you learn from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ere there any illustrations – did they help your understanding of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be able to do anything differently after learn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think about certain things differently as a result of read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did this article make me feel?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y was tha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would you like to be able to do to make things bette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uld you do what the people in the article had to d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would you feel about being in that situ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ecff"/>
                </a:solidFill>
                <a:latin typeface="Arial"/>
              </a:rPr>
              <a:t>You must:</a:t>
            </a:r>
            <a:br>
              <a:rPr sz="3200"/>
            </a:br>
            <a:r>
              <a:rPr b="0" lang="en-NZ" sz="3200" spc="-1" strike="noStrike">
                <a:solidFill>
                  <a:srgbClr val="ccecff"/>
                </a:solidFill>
                <a:latin typeface="Arial"/>
              </a:rPr>
              <a:t>Read an inclusive variety of written texts and record the reading experience</a:t>
            </a:r>
            <a:endParaRPr b="0" lang="en-US" sz="3200" spc="-1" strike="noStrike">
              <a:solidFill>
                <a:srgbClr val="ccecff"/>
              </a:solidFill>
              <a:latin typeface="Arial"/>
            </a:endParaRPr>
          </a:p>
        </p:txBody>
      </p:sp>
      <p:sp>
        <p:nvSpPr>
          <p:cNvPr id="21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n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least nine written texts from at least three different categories –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egories may inclu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emporary nov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e-20</a:t>
            </a:r>
            <a:r>
              <a:rPr b="0" lang="en-NZ" sz="2000" spc="-1" strike="noStrike" baseline="30000">
                <a:solidFill>
                  <a:srgbClr val="ffffff"/>
                </a:solidFill>
                <a:latin typeface="Arial"/>
              </a:rPr>
              <a:t>th</a:t>
            </a:r>
            <a:r>
              <a:rPr b="0" lang="en-NZ" sz="2000" spc="-1" strike="noStrike">
                <a:solidFill>
                  <a:srgbClr val="ffffff"/>
                </a:solidFill>
                <a:latin typeface="Arial"/>
              </a:rPr>
              <a:t> century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lection of short stori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ram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etry antholog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xtended magazine artic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iograph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 boo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bsi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Layout of Writing</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Tex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Book: (if differ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Auth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 book is ab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aragraphs x 3. – comment, explanation, example from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0"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1</a:t>
            </a:r>
            <a:r>
              <a:rPr b="0" lang="en-NZ" sz="2800" spc="-1" strike="noStrike">
                <a:solidFill>
                  <a:srgbClr val="ffffff"/>
                </a:solidFill>
                <a:latin typeface="Arial"/>
              </a:rPr>
              <a:t>	</a:t>
            </a:r>
            <a:r>
              <a:rPr b="0" lang="en-NZ" sz="2800" spc="-1" strike="noStrike">
                <a:solidFill>
                  <a:srgbClr val="ffffff"/>
                </a:solidFill>
                <a:latin typeface="Arial"/>
              </a:rPr>
              <a:t>Selection includes more than one cultural perspective and has regard to gender bala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you have included more than one culture’s writing. European, Maori, et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that you include writing from male and female auth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2" name="PlaceHolder 2"/>
          <p:cNvSpPr>
            <a:spLocks noGrp="1"/>
          </p:cNvSpPr>
          <p:nvPr>
            <p:ph/>
          </p:nvPr>
        </p:nvSpPr>
        <p:spPr>
          <a:xfrm>
            <a:off x="685440" y="1981080"/>
            <a:ext cx="8278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a:t>
            </a:r>
            <a:r>
              <a:rPr b="0" lang="en-NZ" sz="2800" spc="-1" strike="noStrike">
                <a:solidFill>
                  <a:srgbClr val="ffffff"/>
                </a:solidFill>
                <a:latin typeface="Arial"/>
              </a:rPr>
              <a:t>	</a:t>
            </a:r>
            <a:r>
              <a:rPr b="0" lang="en-NZ" sz="2800" spc="-1" strike="noStrike">
                <a:solidFill>
                  <a:srgbClr val="ffffff"/>
                </a:solidFill>
                <a:latin typeface="Arial"/>
              </a:rPr>
              <a:t>Reading includes at least two texts with an established critical reputa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mean reading two texts by someone who is well known for being a good write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Fleur Beale, Jk Rowling, Catherine Mansfield, John Marsden, Patricia Grace, Witi Ihimaera ( this could then cover your need to include more than one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53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4" name="PlaceHolder 2"/>
          <p:cNvSpPr>
            <a:spLocks noGrp="1"/>
          </p:cNvSpPr>
          <p:nvPr>
            <p:ph/>
          </p:nvPr>
        </p:nvSpPr>
        <p:spPr>
          <a:xfrm>
            <a:off x="468360" y="12682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3 Reading log records date of main entry, gives title and writer or source of each text, and a brief personal response with specific reference to details of each tex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rs is in the form of:</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is abou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x paragraphs – statement/explanation/example from the 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6" name="PlaceHolder 2"/>
          <p:cNvSpPr>
            <a:spLocks noGrp="1"/>
          </p:cNvSpPr>
          <p:nvPr>
            <p:ph/>
          </p:nvPr>
        </p:nvSpPr>
        <p:spPr>
          <a:xfrm>
            <a:off x="755640" y="1557360"/>
            <a:ext cx="7772400" cy="4176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Evidence of texts having been read is demonstrated for at least one random sample text recorded in the reading lo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your reading logs or write-ups that you are do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ecff"/>
                </a:solidFill>
                <a:latin typeface="Arial"/>
              </a:rPr>
              <a:t>Wide Reading Unit Standard 12905</a:t>
            </a:r>
            <a:br>
              <a:rPr sz="1800"/>
            </a:br>
            <a:r>
              <a:rPr b="1" lang="en-NZ" sz="1800" spc="-1" strike="noStrike">
                <a:solidFill>
                  <a:srgbClr val="ccecff"/>
                </a:solidFill>
                <a:latin typeface="Arial"/>
              </a:rPr>
              <a:t>- Fiction novels and short stories</a:t>
            </a:r>
            <a:endParaRPr b="0" lang="en-US" sz="1800" spc="-1" strike="noStrike">
              <a:solidFill>
                <a:srgbClr val="ccecff"/>
              </a:solidFill>
              <a:latin typeface="Arial"/>
            </a:endParaRPr>
          </a:p>
        </p:txBody>
      </p:sp>
      <p:sp>
        <p:nvSpPr>
          <p:cNvPr id="22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Short Story/Novel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book that the short story came out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uthor</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hat the text is about</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ree comments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statement, explanation and  example</a:t>
            </a:r>
            <a:r>
              <a:rPr b="0" lang="en-NZ" sz="1800" spc="-1" strike="noStrike">
                <a:solidFill>
                  <a:srgbClr val="ffffff"/>
                </a:solidFill>
                <a:latin typeface="Arial"/>
              </a:rPr>
              <a:t> eg. Things about the characters, plot, themes/ideas. </a:t>
            </a: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challenges have the characters had to deal with?</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Did the characters change over time. How did it affect you?</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ve you learned anything new as a result of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things in life differently after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have coped with the character’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s there someone that you know that has been in thi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if this happened to a member of your fami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g I found the Character of Rupert the Bear to be extraordinarily brave. This is because he beat the dragon over the head with a branch before it had a chance to set it on fire. For example in the text the author states: “Rupert ran to the river and grabbed the branch off the will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oetry:</a:t>
            </a:r>
            <a:endParaRPr b="0" lang="en-US" sz="4400" spc="-1" strike="noStrike">
              <a:solidFill>
                <a:srgbClr val="ccecff"/>
              </a:solidFill>
              <a:latin typeface="Arial"/>
            </a:endParaRPr>
          </a:p>
        </p:txBody>
      </p:sp>
      <p:sp>
        <p:nvSpPr>
          <p:cNvPr id="230" name="PlaceHolder 2"/>
          <p:cNvSpPr>
            <a:spLocks noGrp="1"/>
          </p:cNvSpPr>
          <p:nvPr>
            <p:ph/>
          </p:nvPr>
        </p:nvSpPr>
        <p:spPr>
          <a:xfrm>
            <a:off x="250920" y="907920"/>
            <a:ext cx="8229600" cy="5545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the Book that it has come fro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poem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it make you fe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images were in the poem – pictures painted by the wo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notice any language features/techniques being us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metaphors, similes, personification, onomatopoeia, contrast between ideas, structure, repetition, alliteration, assonance, rhyme, rhyth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se things make the theme stand out more in your mi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learn anything new from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life differently as a result of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situations you have been i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other poems that you have rea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21:23:53Z</dcterms:created>
  <dc:creator>maryvanro</dc:creator>
  <dc:description/>
  <dc:language>en-US</dc:language>
  <cp:lastModifiedBy>maryvanro</cp:lastModifiedBy>
  <dcterms:modified xsi:type="dcterms:W3CDTF">2008-05-22T02:17:48Z</dcterms:modified>
  <cp:revision>46</cp:revision>
  <dc:subject/>
  <dc:title>Slide 1</dc:title>
</cp:coreProperties>
</file>