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911ED-2FD3-4E20-9A65-1A85450C0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41DD5-36D5-4A3D-84FD-08F36D4D5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A854E-C365-473B-9390-B96A997DF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A25BF-0262-40D3-8E16-3AA354DCF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CB92F-4DBB-4498-90CC-2BF06140B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3B11E-5F96-4F56-A1C8-E9194247A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6585A-CDBF-4762-8257-1A1800C16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8B468-7B86-4BCB-A5AE-C9871D3E7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C91C4-2C6F-43D1-8F99-5CEEA1F2E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F058B-779A-4405-86E0-4B6EDFB62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0D1A8-34A3-4AF1-A8A8-F2D6D9093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489F-1119-4963-A183-2EC2E079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78B2D-F92F-47A0-AB15-6C87CC8E3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CBC91-146A-4BEE-8DD6-A07971E9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FEF0E-99A3-428A-96EE-01C076829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D8F78-B893-4083-B9A9-1DA12FB5C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4B085-1A1D-414A-9598-0EAA66443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1D42-A1D3-4218-82F9-94D02B29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4993B-02A2-4E5F-B1AC-432D36A92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DF95-BBE2-4D5A-B412-BDED1C26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0EF11-5C00-405A-B48C-EA833CD75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E193-0F49-4D06-9E5C-0CFFCEC7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93B3-7343-48B8-8E53-F951B809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8509-F03D-4D93-A5A5-B10D5C188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4C15-DF7F-4FEC-9AD7-F7D720C8DB8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DD1A-11F4-4B71-906B-C81764BB13B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2 Wide Reading Unit Standard 12905</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4 Level Two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NINE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nine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12905</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2T02:17:48Z</dcterms:modified>
  <cp:revision>46</cp:revision>
  <dc:subject/>
  <dc:title>Slide 1</dc:title>
</cp:coreProperties>
</file>